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2C1-FE9A-4E06-B180-1ED71D7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1AE-269D-4FA9-868A-4D4EBFF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3BE-B446-4C9D-91C6-AE7BBE8B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2AC-B094-4B5D-BDA3-CFA9FB99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C34-11BB-4A8E-BD98-6D4BDA42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56E-E811-4578-9DDD-D87DF4D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1A7-8D70-431C-AB75-CFA7ECC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435-B190-4AFD-8D6C-E28273C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CE3-F6CA-428F-86EC-B761AB4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929-5C3B-4312-9077-9476148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D6D-98F5-4A62-8696-E10E556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A2C-C46A-44E4-8669-123D73A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53B-213A-4566-900A-48CA6211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PFs and Oth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0760" y="1468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9080" y="146988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1480" y="3554280"/>
            <a:ext cx="217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98960" y="35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14840" y="1773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78440" y="2073240"/>
            <a:ext cx="0" cy="317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84560" y="355428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666520" y="3556080"/>
            <a:ext cx="9720" cy="1690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041640" y="356544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2680" y="3425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9920" y="2922480"/>
            <a:ext cx="13064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81360" y="354348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81360" y="409104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/>
          <p:nvPr/>
        </p:nvSpPr>
        <p:spPr>
          <a:xfrm>
            <a:off x="1700280" y="3089160"/>
            <a:ext cx="2246400" cy="908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04960" y="176544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stable Markets and The Conduct of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149880" y="455436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Monopo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395440" y="2114640"/>
            <a:ext cx="1935360" cy="29034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219560" y="49766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873080" y="33084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5000" y="4230720"/>
            <a:ext cx="7920" cy="101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 flipV="1">
            <a:off x="1677960" y="4241520"/>
            <a:ext cx="4043520" cy="3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380960" y="414180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56272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843440" y="3147840"/>
            <a:ext cx="110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ormal Profit output where AC=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H="1">
            <a:off x="5718240" y="3557520"/>
            <a:ext cx="7920" cy="625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1600200" y="15238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600200" y="518148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849920" y="1668600"/>
            <a:ext cx="261612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ume we start out at P1 and Q1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 firm benefit from raising price above P1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it benefit from cutting price below P1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5002200" y="2583000"/>
            <a:ext cx="914400" cy="53316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752480" y="1465200"/>
            <a:ext cx="19432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ising price abov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s relatively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m loses market share and some total 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641920" y="3755880"/>
            <a:ext cx="2171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ducing price below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s relatively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ttle gain in market share – other firms have followed su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revenue may still f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959360" y="5257800"/>
            <a:ext cx="31284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765000" y="1454040"/>
            <a:ext cx="83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505560" y="51879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689360" y="51735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256360" y="60278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-581400" y="1431000"/>
            <a:ext cx="643752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680080" y="28987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 – Rising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593720" y="1854360"/>
            <a:ext cx="6480" cy="33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600200" y="518148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959360" y="4737240"/>
            <a:ext cx="312840" cy="841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781200" y="178128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791320" y="5187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791240" y="52117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230800" y="54687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-137520" y="1456560"/>
            <a:ext cx="643824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124680" y="2924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ked Demand Curve – Rising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593720" y="1854360"/>
            <a:ext cx="6480" cy="33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600200" y="518148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1599840" y="3124080"/>
            <a:ext cx="3352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819520" y="2362320"/>
            <a:ext cx="2133360" cy="76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952880" y="3124080"/>
            <a:ext cx="685800" cy="1676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819520" y="2590920"/>
            <a:ext cx="2133360" cy="1523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959360" y="4737240"/>
            <a:ext cx="312840" cy="841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781200" y="1781280"/>
            <a:ext cx="834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791320" y="5187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292400" y="30052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791240" y="52117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230800" y="54687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468760" y="480996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-137520" y="1456560"/>
            <a:ext cx="643824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124680" y="2924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5896080" y="2616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-358200" y="1148040"/>
            <a:ext cx="6438240" cy="34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-596160" y="703440"/>
            <a:ext cx="6438240" cy="34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607000" y="21337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510080" y="2987640"/>
            <a:ext cx="0" cy="2179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1601280" y="2959200"/>
            <a:ext cx="291492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293840" y="2840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348080" y="521352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Gam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4" name=""/>
          <p:cNvGraphicFramePr/>
          <p:nvPr/>
        </p:nvGraphicFramePr>
        <p:xfrm>
          <a:off x="1900080" y="1371600"/>
          <a:ext cx="5464080" cy="3087720"/>
        </p:xfrm>
        <a:graphic>
          <a:graphicData uri="http://schemas.openxmlformats.org/drawingml/2006/table">
            <a:tbl>
              <a:tblPr/>
              <a:tblGrid>
                <a:gridCol w="1171440"/>
                <a:gridCol w="1263960"/>
                <a:gridCol w="1352520"/>
                <a:gridCol w="1676160"/>
              </a:tblGrid>
              <a:tr h="614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wo prisoners are held in a separate room and cannot commun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y are both suspected of a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y can either confess or they can deny the c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yoffs shown in the matrix are years in prison from their chosen course of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isions made under uncertain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Prisone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Prisone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Game Theor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6" name=""/>
          <p:cNvGraphicFramePr/>
          <p:nvPr/>
        </p:nvGraphicFramePr>
        <p:xfrm>
          <a:off x="1789200" y="1371600"/>
          <a:ext cx="5760720" cy="3579480"/>
        </p:xfrm>
        <a:graphic>
          <a:graphicData uri="http://schemas.openxmlformats.org/drawingml/2006/table">
            <a:tbl>
              <a:tblPr/>
              <a:tblGrid>
                <a:gridCol w="1234800"/>
                <a:gridCol w="1332720"/>
                <a:gridCol w="1425960"/>
                <a:gridCol w="1767240"/>
              </a:tblGrid>
              <a:tr h="614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equilibrium in the Prisoners’ Dilemma occurs when each player takes the best possible action for themselves given the action of the other 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dominant strategy is each prisoners’ unique best strategy regardless of the other players’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st strategy? Confes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bad outcome – prisoners could do better by both denying – but once collusion sets in, each prisoner has an incentive to cheat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Prisone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Prisone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f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3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10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 yea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993300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2 year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1143000" y="1452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141560" y="493236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495680" y="1509840"/>
            <a:ext cx="7920" cy="34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495680" y="493236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2101680" y="133020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949000" y="1346040"/>
            <a:ext cx="66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559320" y="500544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201440" y="501336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Industry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1065960" y="214920"/>
            <a:ext cx="70092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579440" y="20397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172120" y="1731960"/>
            <a:ext cx="2523960" cy="2522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439400" y="424512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006880" y="2025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-304200" y="-165960"/>
            <a:ext cx="33523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1177920" y="1891440"/>
            <a:ext cx="25905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879640" y="1709640"/>
            <a:ext cx="36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633120" y="240336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345000" y="459432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606680" y="2889360"/>
            <a:ext cx="733320" cy="65088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1587600" y="1668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585800" y="514836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4940280" y="1725480"/>
            <a:ext cx="7920" cy="343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940280" y="5148360"/>
            <a:ext cx="285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579760" y="154620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13760" y="1562040"/>
            <a:ext cx="63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4029840" y="522144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1510200" y="430560"/>
            <a:ext cx="7008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27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2713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7250040" y="324648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616720" y="1947960"/>
            <a:ext cx="2282760" cy="22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7310520" y="425772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451480" y="2241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794280" y="480996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654048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587600" y="287028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981720" y="265104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140400" y="49680"/>
            <a:ext cx="33516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1622520" y="2107800"/>
            <a:ext cx="259020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3327480" y="192564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012560" y="263700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34936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2087640" y="5208480"/>
            <a:ext cx="51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Qu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1587600" y="355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194520" y="52084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367880" y="264168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288440" y="3433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/>
          <p:nvPr/>
        </p:nvSpPr>
        <p:spPr>
          <a:xfrm>
            <a:off x="1606680" y="2889360"/>
            <a:ext cx="733320" cy="65088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87600" y="1668600"/>
            <a:ext cx="0" cy="348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585800" y="514836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4940280" y="1725480"/>
            <a:ext cx="7920" cy="343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940280" y="5148360"/>
            <a:ext cx="285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579760" y="154620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ividual Fi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413760" y="1562040"/>
            <a:ext cx="63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4029840" y="522144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irm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1510200" y="430560"/>
            <a:ext cx="7008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27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2713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7250040" y="324648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 (indust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616720" y="1947960"/>
            <a:ext cx="2282760" cy="22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7310520" y="4257720"/>
            <a:ext cx="63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5451480" y="2241720"/>
            <a:ext cx="1393920" cy="2685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794280" y="480996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654048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1587600" y="2870280"/>
            <a:ext cx="4952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981720" y="265104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140400" y="49680"/>
            <a:ext cx="33516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1622520" y="2107800"/>
            <a:ext cx="259020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0" y="6305"/>
                </a:moveTo>
                <a:arcTo wR="10800" hR="10800" stAng="-9324436" swAng="9324436"/>
                <a:lnTo>
                  <a:pt x="10800" y="10800"/>
                </a:lnTo>
                <a:close/>
              </a:path>
              <a:path fill="none" w="21600" h="21600">
                <a:moveTo>
                  <a:pt x="980" y="6305"/>
                </a:moveTo>
                <a:arcTo wR="10800" hR="10800" stAng="-9324436" swAng="932443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327480" y="1925640"/>
            <a:ext cx="3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4012560" y="263700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360" y="28702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087640" y="5208480"/>
            <a:ext cx="51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Qu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1587600" y="355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194520" y="52084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dus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4367880" y="264168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(cart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1288440" y="3433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 Fixing C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"/>
          <p:cNvSpPr/>
          <p:nvPr/>
        </p:nvSpPr>
        <p:spPr>
          <a:xfrm>
            <a:off x="1698480" y="2008080"/>
            <a:ext cx="1952640" cy="965160"/>
          </a:xfrm>
          <a:prstGeom prst="rtTriangle">
            <a:avLst/>
          </a:prstGeom>
          <a:solidFill>
            <a:srgbClr val="ff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690560" y="1979640"/>
            <a:ext cx="3980160" cy="1938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634000" y="384012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1684440" y="2030040"/>
            <a:ext cx="3009960" cy="3016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554360" y="181440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1679040" y="2975040"/>
            <a:ext cx="207180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3730680" y="2998800"/>
            <a:ext cx="22320" cy="2259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1378080" y="2878200"/>
            <a:ext cx="32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576600" y="5291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5856120" y="1879560"/>
            <a:ext cx="714600" cy="368280"/>
          </a:xfrm>
          <a:prstGeom prst="rtTriangle">
            <a:avLst/>
          </a:prstGeom>
          <a:solidFill>
            <a:srgbClr val="ff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794200" y="225576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nsumer Surplus (C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1700280" y="3009240"/>
            <a:ext cx="1960560" cy="1981080"/>
          </a:xfrm>
          <a:prstGeom prst="rtTriangle">
            <a:avLst/>
          </a:prstGeom>
          <a:solidFill>
            <a:srgbClr val="cc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865840" y="2674800"/>
            <a:ext cx="714240" cy="368280"/>
          </a:xfrm>
          <a:prstGeom prst="rtTriangle">
            <a:avLst/>
          </a:prstGeom>
          <a:solidFill>
            <a:srgbClr val="cc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788080" y="30510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ducer Surplus (P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90760" y="1468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146988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erfectly In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1480" y="3554280"/>
            <a:ext cx="217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98960" y="35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4840" y="1773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78440" y="2073240"/>
            <a:ext cx="0" cy="317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284560" y="355428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666520" y="3556080"/>
            <a:ext cx="9720" cy="1690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041640" y="3565440"/>
            <a:ext cx="9360" cy="169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82680" y="3425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9920" y="2922480"/>
            <a:ext cx="13064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1360" y="354348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1360" y="4091040"/>
            <a:ext cx="1306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1692360" y="3174840"/>
            <a:ext cx="2368440" cy="17316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Monopoly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690560" y="1979640"/>
            <a:ext cx="5079960" cy="24717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696000" y="43498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684840" y="3881520"/>
            <a:ext cx="13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Marginal Cost (LR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1674720" y="3149640"/>
            <a:ext cx="2409840" cy="22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>
            <a:off x="4071960" y="3151080"/>
            <a:ext cx="7920" cy="2106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09760" y="30528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917880" y="52833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287440" y="3143160"/>
            <a:ext cx="135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99"/>
                </a:solidFill>
                <a:latin typeface="Arial"/>
              </a:rPr>
              <a:t>Profit Maxim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6039000" y="52722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H="1" flipV="1">
            <a:off x="2259000" y="2036160"/>
            <a:ext cx="5327280" cy="22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66" y="2605"/>
                </a:moveTo>
                <a:arcTo wR="10800" hR="10800" stAng="-7838422" swAng="7838422"/>
                <a:lnTo>
                  <a:pt x="10800" y="10800"/>
                </a:lnTo>
                <a:close/>
              </a:path>
              <a:path fill="none" w="21600" h="21600">
                <a:moveTo>
                  <a:pt x="3766" y="2605"/>
                </a:moveTo>
                <a:arcTo wR="10800" hR="10800" stAng="-7838422" swAng="7838422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6683400" y="3500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Average Cost (LR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1690560" y="1989000"/>
            <a:ext cx="3014640" cy="286704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635360" y="4805280"/>
            <a:ext cx="40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H="1" flipV="1">
            <a:off x="2533320" y="580320"/>
            <a:ext cx="8152560" cy="30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1668600" y="3349800"/>
            <a:ext cx="240984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328760" y="3263760"/>
            <a:ext cx="49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917640" y="17654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Monopoly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013120" y="23144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ong Run Average Cost (LR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1987920" y="861840"/>
            <a:ext cx="8197560" cy="304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49" y="1657"/>
                </a:moveTo>
                <a:arcTo wR="10800" hR="10800" stAng="-3470194" swAng="3470194"/>
                <a:lnTo>
                  <a:pt x="10800" y="10800"/>
                </a:lnTo>
                <a:close/>
              </a:path>
              <a:path fill="none" w="21600" h="21600">
                <a:moveTo>
                  <a:pt x="16549" y="1657"/>
                </a:moveTo>
                <a:arcTo wR="10800" hR="10800" stAng="-3470194" swAng="3470194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914640" y="3678120"/>
            <a:ext cx="2795760" cy="7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5510520" y="3171240"/>
            <a:ext cx="2370960" cy="51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4668840" y="3838680"/>
            <a:ext cx="18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nstant returns to sc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900600" y="3672000"/>
            <a:ext cx="0" cy="1577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271680" y="5283360"/>
            <a:ext cx="13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inimum Efficient Sc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Discrimination (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057400" y="1643040"/>
            <a:ext cx="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057400" y="5376960"/>
            <a:ext cx="5318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6075360" y="5413320"/>
            <a:ext cx="168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of 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436760" y="1566720"/>
            <a:ext cx="73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057400" y="3852720"/>
            <a:ext cx="5116680" cy="1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044800" y="1932120"/>
            <a:ext cx="2830320" cy="3198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809960" y="5038560"/>
            <a:ext cx="168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R (Market 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2062080" y="1962000"/>
            <a:ext cx="1596960" cy="3306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629160" y="515160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2951280" y="2994120"/>
            <a:ext cx="0" cy="23796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041560" y="2976480"/>
            <a:ext cx="930240" cy="18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1749600" y="20350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602400" y="3598920"/>
            <a:ext cx="79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 = 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2114640" y="53722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260440" y="2166480"/>
            <a:ext cx="12960" cy="32259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H="1" flipV="1">
            <a:off x="2041200" y="2178000"/>
            <a:ext cx="214200" cy="648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2478240" y="2427120"/>
            <a:ext cx="0" cy="29307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2066760" y="3316320"/>
            <a:ext cx="1206720" cy="144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276720" y="3316320"/>
            <a:ext cx="0" cy="20541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767040" y="3855960"/>
            <a:ext cx="0" cy="149076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741320" y="230040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741320" y="318456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2771640" y="5376960"/>
            <a:ext cx="36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2355840" y="537372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3790800" y="2617920"/>
            <a:ext cx="0" cy="1139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27520" y="2540160"/>
            <a:ext cx="2176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quilibrium output with perfect price discrimination – the monopolist will sell an extra unit providing that the next unit adds as much to revenue as it does to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2043000" y="2430360"/>
            <a:ext cx="419040" cy="1800"/>
          </a:xfrm>
          <a:prstGeom prst="line">
            <a:avLst/>
          </a:prstGeom>
          <a:ln w="255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743120" y="282564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743120" y="37018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098880" y="537840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638520" y="537840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"/>
          <p:cNvSpPr/>
          <p:nvPr/>
        </p:nvSpPr>
        <p:spPr>
          <a:xfrm>
            <a:off x="1903320" y="1755720"/>
            <a:ext cx="0" cy="3834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890720" y="5591160"/>
            <a:ext cx="5900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6458040" y="18144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(Marginal Cos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894040" y="2973240"/>
            <a:ext cx="1915920" cy="1916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4778280" y="4772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-Peak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78360" y="2075040"/>
            <a:ext cx="1916280" cy="191592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7550280" y="397368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ak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843280" y="3411360"/>
            <a:ext cx="1114200" cy="184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881520" y="5241960"/>
            <a:ext cx="11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7018200" y="4700520"/>
            <a:ext cx="116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637240" y="2308320"/>
            <a:ext cx="1503360" cy="239220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181320" y="3274920"/>
            <a:ext cx="0" cy="2305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1890360" y="3262320"/>
            <a:ext cx="129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H="1" flipV="1">
            <a:off x="1890720" y="2523600"/>
            <a:ext cx="4332240" cy="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977760" y="3146400"/>
            <a:ext cx="127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168560" y="2411280"/>
            <a:ext cx="127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2535120" y="5637240"/>
            <a:ext cx="142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Off-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5740560" y="5637240"/>
            <a:ext cx="142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215040" y="2519280"/>
            <a:ext cx="0" cy="306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1055520" y="1682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 and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7284960" y="5630760"/>
            <a:ext cx="116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-2618640" y="556200"/>
            <a:ext cx="9654480" cy="34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ak and Off Peak 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"/>
          <p:cNvSpPr/>
          <p:nvPr/>
        </p:nvSpPr>
        <p:spPr>
          <a:xfrm>
            <a:off x="1846440" y="3174840"/>
            <a:ext cx="888840" cy="52704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370480" y="2486160"/>
            <a:ext cx="363600" cy="1190520"/>
          </a:xfrm>
          <a:prstGeom prst="rect">
            <a:avLst/>
          </a:prstGeom>
          <a:solidFill>
            <a:srgbClr val="99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505320" y="549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440440" y="1457280"/>
            <a:ext cx="643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895000" y="1457280"/>
            <a:ext cx="643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832040" y="3705120"/>
            <a:ext cx="55371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878520" y="3700440"/>
            <a:ext cx="58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=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570360" y="5410080"/>
            <a:ext cx="61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370040" y="5410080"/>
            <a:ext cx="61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1391040" y="1789200"/>
            <a:ext cx="44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4904280" y="1900080"/>
            <a:ext cx="44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1534680" y="3068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071680" y="234792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743440" y="240984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2746440" y="317196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1832040" y="3171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1832040" y="186372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1832040" y="5367240"/>
            <a:ext cx="30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5362560" y="5367240"/>
            <a:ext cx="20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362560" y="186228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138400" y="2928960"/>
            <a:ext cx="3048120" cy="1219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136600" y="3157560"/>
            <a:ext cx="1981440" cy="1752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514840" y="1862280"/>
            <a:ext cx="1295640" cy="3200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438880" y="2395440"/>
            <a:ext cx="609480" cy="2667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046400" y="483408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949720" y="502452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711480" y="502452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771800" y="414828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5362560" y="2471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908440" y="1919160"/>
            <a:ext cx="1376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fit from selling to market A – with a relatively elastic demand – and charging a lower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016680" y="1920960"/>
            <a:ext cx="1452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and in segment B of the market is relatively inelastic. A higher unit price is charg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5702400" y="2039760"/>
            <a:ext cx="326880" cy="162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flipH="1">
            <a:off x="2495520" y="2270160"/>
            <a:ext cx="387360" cy="1012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446720" y="3689280"/>
            <a:ext cx="58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=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5586120" y="539424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565000" y="540720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ce Discrimination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/>
          <p:nvPr/>
        </p:nvSpPr>
        <p:spPr>
          <a:xfrm>
            <a:off x="4370400" y="3362400"/>
            <a:ext cx="1879560" cy="55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1851120" y="267804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454560" y="45244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1736640" y="2658600"/>
            <a:ext cx="1490760" cy="1498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119400" y="23814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1680840" y="33559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517840" y="3360600"/>
            <a:ext cx="0" cy="18957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1393920" y="32511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2505240" y="33480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814480" y="3276360"/>
            <a:ext cx="1109880" cy="6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662880" y="3073320"/>
            <a:ext cx="127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 (Demand) = 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086520" y="2282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4191480" y="2626200"/>
            <a:ext cx="303768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66" y="3366"/>
                </a:moveTo>
                <a:arcTo wR="10800" hR="10800" stAng="-8190208" swAng="8190208"/>
                <a:lnTo>
                  <a:pt x="10800" y="10800"/>
                </a:lnTo>
                <a:close/>
              </a:path>
              <a:path fill="none" w="21600" h="21600">
                <a:moveTo>
                  <a:pt x="2966" y="3366"/>
                </a:moveTo>
                <a:arcTo wR="10800" hR="10800" stAng="-8190208" swAng="8190208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7029360" y="357012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6267600" y="3348000"/>
            <a:ext cx="0" cy="1895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4348080" y="3925800"/>
            <a:ext cx="1919520" cy="1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102200" y="3157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994200" y="3801960"/>
            <a:ext cx="4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6110280" y="529128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– Sub Normal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851120" y="344016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454560" y="4857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184480" y="2916360"/>
            <a:ext cx="1490760" cy="1498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309840" y="256212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1680840" y="41083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2517840" y="4094280"/>
            <a:ext cx="9360" cy="1162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1393920" y="4003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505240" y="41004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919920" y="384480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R = 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296040" y="228276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4191480" y="2331000"/>
            <a:ext cx="303768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66" y="3366"/>
                </a:moveTo>
                <a:arcTo wR="10800" hR="10800" stAng="-8190208" swAng="8190208"/>
                <a:lnTo>
                  <a:pt x="10800" y="10800"/>
                </a:lnTo>
                <a:close/>
              </a:path>
              <a:path fill="none" w="21600" h="21600">
                <a:moveTo>
                  <a:pt x="2966" y="3366"/>
                </a:moveTo>
                <a:arcTo wR="10800" hR="10800" stAng="-8190208" swAng="8190208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7077240" y="2808360"/>
            <a:ext cx="37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5505480" y="3662280"/>
            <a:ext cx="9360" cy="15811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4348080" y="3678120"/>
            <a:ext cx="1185840" cy="1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994200" y="3564000"/>
            <a:ext cx="4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5348160" y="5291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ect Competition (2) Increase in Marke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595680" y="5284800"/>
            <a:ext cx="76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 and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Firm’s Costs and 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1851120" y="2678040"/>
            <a:ext cx="1820880" cy="1820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454560" y="45244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1736640" y="2658600"/>
            <a:ext cx="1490760" cy="1498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119400" y="238140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1680840" y="3355920"/>
            <a:ext cx="83988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517840" y="3360600"/>
            <a:ext cx="0" cy="18957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1393920" y="32511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34648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2505240" y="3348000"/>
            <a:ext cx="49752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662880" y="3073320"/>
            <a:ext cx="127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1 = MR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2621160" y="633600"/>
            <a:ext cx="3872880" cy="36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086520" y="2282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4191840" y="2626200"/>
            <a:ext cx="3037320" cy="13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1" y="4710"/>
                </a:moveTo>
                <a:arcTo wR="10800" hR="10800" stAng="-8740491" swAng="8740491"/>
                <a:lnTo>
                  <a:pt x="10800" y="10800"/>
                </a:lnTo>
                <a:close/>
              </a:path>
              <a:path fill="none" w="21600" h="21600">
                <a:moveTo>
                  <a:pt x="1881" y="4710"/>
                </a:moveTo>
                <a:arcTo wR="10800" hR="10800" stAng="-8740491" swAng="8740491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783480" y="345132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695920" y="3959280"/>
            <a:ext cx="0" cy="12841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4102200" y="31575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530680" y="52912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852560" y="3417480"/>
            <a:ext cx="2247840" cy="1282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1684440" y="3975120"/>
            <a:ext cx="5664240" cy="14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387440" y="386388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7124760" y="379404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672240" y="3987720"/>
            <a:ext cx="12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2 = 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2971800" y="527364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138480" y="3987720"/>
            <a:ext cx="0" cy="1270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138480" y="2879640"/>
            <a:ext cx="619200" cy="619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90880" y="342252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075200" y="376884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ng Monopoly with Perf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6018120" y="22478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5219640" y="3057480"/>
            <a:ext cx="6480" cy="2203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4338720" y="3068640"/>
            <a:ext cx="882720" cy="7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852720" y="29527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5056200" y="5286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5234040" y="3095640"/>
            <a:ext cx="28872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rot="5400000">
            <a:off x="5237280" y="3413160"/>
            <a:ext cx="288720" cy="28872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6518160" y="2836800"/>
            <a:ext cx="28908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6775560" y="3187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loss of produc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rot="5400000">
            <a:off x="6540120" y="3232080"/>
            <a:ext cx="289080" cy="28908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"/>
          <p:cNvSpPr/>
          <p:nvPr/>
        </p:nvSpPr>
        <p:spPr>
          <a:xfrm>
            <a:off x="5234040" y="3095640"/>
            <a:ext cx="28872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fare Loss Under Pure Mono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018120" y="224784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5219640" y="3057480"/>
            <a:ext cx="6480" cy="22035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H="1">
            <a:off x="4338720" y="3068640"/>
            <a:ext cx="88272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852720" y="29527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056200" y="52862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rot="5400000">
            <a:off x="5237280" y="3413160"/>
            <a:ext cx="288720" cy="28872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518160" y="2836800"/>
            <a:ext cx="289080" cy="2890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773760" y="2836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et loss of consum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775560" y="318780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et loss of produc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rot="5400000">
            <a:off x="6540120" y="3232080"/>
            <a:ext cx="289080" cy="289080"/>
          </a:xfrm>
          <a:prstGeom prst="rtTriangle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103720" y="28526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438880" y="317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5200560" y="36306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146480" y="3200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85960" y="2514600"/>
            <a:ext cx="88272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82680" y="2476440"/>
            <a:ext cx="914400" cy="2478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90760" y="1173240"/>
            <a:ext cx="21938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99"/>
                </a:solidFill>
                <a:latin typeface="Arial"/>
              </a:rPr>
              <a:t>Supply responds quickly to a change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18240" y="1174680"/>
            <a:ext cx="25779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Inela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99"/>
                </a:solidFill>
                <a:latin typeface="Arial"/>
              </a:rPr>
              <a:t>Supply responds less than proportionately to a change i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28720" y="3301920"/>
            <a:ext cx="210996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68600" y="29541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45200" y="203508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8560" y="531504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60600" y="531648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800600" y="2317680"/>
            <a:ext cx="743040" cy="25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84560" y="3881520"/>
            <a:ext cx="9360" cy="1363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0760" y="3735360"/>
            <a:ext cx="6120" cy="1511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1640" y="3589200"/>
            <a:ext cx="9360" cy="1667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9544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160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0200" y="5308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8520" y="3743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43320" y="34257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43320" y="2786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43320" y="3959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579920" y="2914560"/>
            <a:ext cx="800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81360" y="3543480"/>
            <a:ext cx="61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81360" y="4083120"/>
            <a:ext cx="4334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9320" y="53103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0280" y="2433600"/>
            <a:ext cx="93996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7720" y="4956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54160" y="495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7440" y="4950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673280" y="3862440"/>
            <a:ext cx="6127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88760" y="3736800"/>
            <a:ext cx="955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687320" y="3595680"/>
            <a:ext cx="1339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92400" y="35784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3840" y="3429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51600" y="2336760"/>
            <a:ext cx="939600" cy="251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1880" y="2716200"/>
            <a:ext cx="866880" cy="2347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3057480"/>
            <a:ext cx="809640" cy="2135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02280" y="4830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4520" y="4927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2800" y="502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37120" y="4073400"/>
            <a:ext cx="0" cy="117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4720" y="3527280"/>
            <a:ext cx="0" cy="1722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2906640"/>
            <a:ext cx="0" cy="2351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1676520" y="525780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re Monopoly and Scal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723000" y="528336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43527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4352760" y="5267160"/>
            <a:ext cx="3129120" cy="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798560" y="1568520"/>
            <a:ext cx="187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4503600" y="1569960"/>
            <a:ext cx="252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46000" y="177804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530520" y="1779480"/>
            <a:ext cx="87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887480" y="2490840"/>
            <a:ext cx="2103480" cy="2103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1820880" y="2606760"/>
            <a:ext cx="1785960" cy="1792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262320" y="225432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630600" y="461484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ket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643280" y="2484360"/>
            <a:ext cx="2103480" cy="2103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4576680" y="2599920"/>
            <a:ext cx="1785960" cy="1792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6129360" y="2224080"/>
            <a:ext cx="8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etitive Supply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1670040" y="3400560"/>
            <a:ext cx="3902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6554880" y="457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Dem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803680" y="3400560"/>
            <a:ext cx="0" cy="1865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5567400" y="3402000"/>
            <a:ext cx="0" cy="1865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639880" y="52754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5411880" y="5284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4502160" y="2595600"/>
            <a:ext cx="1620720" cy="2549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6087960" y="50673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5743440" y="3597120"/>
            <a:ext cx="6480" cy="166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4333680" y="3608280"/>
            <a:ext cx="1422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096920" y="32670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co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60640" y="34765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603760" y="5286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4816440" y="3642840"/>
            <a:ext cx="2751120" cy="13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7345440" y="300816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nopoly Supply with Scale Econom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"/>
          <p:cNvSpPr/>
          <p:nvPr/>
        </p:nvSpPr>
        <p:spPr>
          <a:xfrm>
            <a:off x="1712880" y="2841480"/>
            <a:ext cx="2843280" cy="135108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700280" y="3105000"/>
            <a:ext cx="2238480" cy="8924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 Maximisation and a Rise i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1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95440" y="2114640"/>
            <a:ext cx="2183040" cy="3298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4497480" y="541332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4781520" y="202392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587840" y="2806560"/>
            <a:ext cx="0" cy="2443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1693440" y="2800440"/>
            <a:ext cx="289260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380960" y="26971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H="1">
            <a:off x="1663200" y="4191120"/>
            <a:ext cx="291636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316160" y="409428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426888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4272120" y="1784520"/>
            <a:ext cx="495000" cy="17136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4776840" y="175428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ofit Max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984400" y="17161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6754680" y="4232160"/>
            <a:ext cx="4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2889360" y="1836720"/>
            <a:ext cx="2182680" cy="3298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040360" y="5011560"/>
            <a:ext cx="45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143000" y="1765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 per unit in the long r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 flipV="1">
            <a:off x="1209240" y="-2575440"/>
            <a:ext cx="803052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498975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49897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7423200" y="336852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184720" y="4299120"/>
            <a:ext cx="0" cy="94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970520" y="5291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987560" y="3844800"/>
            <a:ext cx="2987640" cy="6048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2044800" y="45576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lling LRAC – Economies of Scale (Increasing Returns to Sc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245200" y="45594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ising LRAC – Diseconomies of Scale (Decreasing Returns to Sc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5421240" y="3967200"/>
            <a:ext cx="2124000" cy="51120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165320" y="1773360"/>
            <a:ext cx="538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sts per unit in the long run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448160" y="537228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Efficient Scale (MES) and Mar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381480" y="306540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047000" y="426240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1696680" y="1360800"/>
            <a:ext cx="494244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" y="4596"/>
                </a:moveTo>
                <a:arcTo wR="10800" hR="10800" stAng="-8696184" swAng="7296361"/>
                <a:lnTo>
                  <a:pt x="10800" y="10800"/>
                </a:lnTo>
                <a:close/>
              </a:path>
              <a:path fill="none" w="21600" h="21600">
                <a:moveTo>
                  <a:pt x="1960" y="4596"/>
                </a:moveTo>
                <a:arcTo wR="10800" hR="10800" stAng="-8696184" swAng="729636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977080" y="3303720"/>
            <a:ext cx="57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H="1" flipV="1">
            <a:off x="1993320" y="2246760"/>
            <a:ext cx="1751400" cy="13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" y="5441"/>
                </a:moveTo>
                <a:arcTo wR="10800" hR="10800" stAng="-9015071" swAng="9015071"/>
                <a:lnTo>
                  <a:pt x="10800" y="10800"/>
                </a:lnTo>
                <a:close/>
              </a:path>
              <a:path fill="none" w="21600" h="21600">
                <a:moveTo>
                  <a:pt x="1423" y="5441"/>
                </a:moveTo>
                <a:arcTo wR="10800" hR="10800" stAng="-9015071" swAng="9015071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H="1" flipV="1">
            <a:off x="2704680" y="469440"/>
            <a:ext cx="9600480" cy="40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4003560" y="4476600"/>
            <a:ext cx="12960" cy="765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763800" y="53546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>
            <a:off x="2873160" y="3651120"/>
            <a:ext cx="12600" cy="1578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595600" y="53546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002360" y="5342040"/>
            <a:ext cx="6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7267320" y="4540320"/>
            <a:ext cx="12600" cy="714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971960" y="4603680"/>
            <a:ext cx="2190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 =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Benefit (SM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Social Welfare from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4206960" y="252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rot="16200000">
            <a:off x="3821040" y="2852280"/>
            <a:ext cx="569880" cy="43344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rot="16200000">
            <a:off x="1834920" y="3619080"/>
            <a:ext cx="297000" cy="36036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2025720" y="363204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adweight loss of economic welf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V="1">
            <a:off x="3376440" y="3002040"/>
            <a:ext cx="820800" cy="820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-1519560" y="2419560"/>
            <a:ext cx="642096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819440" y="4849920"/>
            <a:ext cx="14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3220920" y="4959360"/>
            <a:ext cx="271440" cy="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1165320" y="17146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6186600" y="535464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Quantity of Ho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5700600" y="49482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Private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899320" y="2781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6443640" y="463860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+ Extern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"/>
          <p:cNvSpPr/>
          <p:nvPr/>
        </p:nvSpPr>
        <p:spPr>
          <a:xfrm rot="5400000">
            <a:off x="4311000" y="2740680"/>
            <a:ext cx="1185840" cy="790560"/>
          </a:xfrm>
          <a:prstGeom prst="triangle">
            <a:avLst>
              <a:gd name="adj" fmla="val 68634"/>
            </a:avLst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 and Welfar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700600" y="4948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5867280" y="27417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= 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6443640" y="46386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4487760" y="2039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Welfare loss where SMB&gt;PMB above output 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>
            <a:off x="4794120" y="2281320"/>
            <a:ext cx="7920" cy="10303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5218200" y="31226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3786120" y="50468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996920" y="3930480"/>
            <a:ext cx="3692520" cy="1393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5465880" y="5072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from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986280" y="4662360"/>
            <a:ext cx="1440" cy="677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ly Efficient Provision of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2158920" y="2750760"/>
            <a:ext cx="3846600" cy="1919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915160" y="258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Marginal Social Cost (MS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654360" y="3903840"/>
            <a:ext cx="9720" cy="143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3392640" y="530856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6520" y="2365200"/>
            <a:ext cx="0" cy="28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33640" y="22716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03840" y="5316480"/>
            <a:ext cx="65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06760" y="2320920"/>
            <a:ext cx="2381040" cy="2351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287080" y="2424240"/>
            <a:ext cx="2343240" cy="2341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3288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7840" y="2343240"/>
            <a:ext cx="2365560" cy="2338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46680" y="46911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61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"/>
          <p:cNvSpPr/>
          <p:nvPr/>
        </p:nvSpPr>
        <p:spPr>
          <a:xfrm flipH="1" rot="16200000">
            <a:off x="3790800" y="2997000"/>
            <a:ext cx="873000" cy="511200"/>
          </a:xfrm>
          <a:prstGeom prst="triangle">
            <a:avLst>
              <a:gd name="adj" fmla="val 44444"/>
            </a:avLst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4726080" y="2809800"/>
            <a:ext cx="110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4530600" y="2932200"/>
            <a:ext cx="338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5024520" y="3908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Ne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 flipV="1">
            <a:off x="4266720" y="3187800"/>
            <a:ext cx="824040" cy="823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2465280" y="4470120"/>
            <a:ext cx="3944880" cy="655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219720" y="430056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Trebuchet MS"/>
              </a:rPr>
              <a:t>M</a:t>
            </a: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 – Pollution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2217600" y="2374920"/>
            <a:ext cx="3394080" cy="170496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5519880" y="22431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152360" y="1765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59259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2612880" y="16430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284800" y="446724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Limited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40942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Merit Goods and Health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780080" y="1913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91320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66696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082960" y="1882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351240" y="3162240"/>
            <a:ext cx="0" cy="209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0970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4722840" y="473076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Full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"/>
          <p:cNvSpPr/>
          <p:nvPr/>
        </p:nvSpPr>
        <p:spPr>
          <a:xfrm>
            <a:off x="3765600" y="3841920"/>
            <a:ext cx="14400" cy="1407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1676520" y="5257800"/>
            <a:ext cx="4876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1104840" y="1741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494320" y="5364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1677960" y="3833640"/>
            <a:ext cx="20955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1671480" y="3406680"/>
            <a:ext cx="2847960" cy="17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295280" y="3656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295280" y="3270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1295280" y="39513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353052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26668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42940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4525920" y="3411360"/>
            <a:ext cx="17640" cy="182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-1605960" y="-480240"/>
            <a:ext cx="7050960" cy="46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1689120" y="2709720"/>
            <a:ext cx="3533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1690560" y="2235240"/>
            <a:ext cx="3714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297080" y="2482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1297080" y="2097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5261040" y="179856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210280" y="2706840"/>
            <a:ext cx="17280" cy="2514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402160" y="2239920"/>
            <a:ext cx="33480" cy="302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4970520" y="5365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210280" y="536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44600" y="297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Macroeconomics Diagrams for IB 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/>
          <p:nvPr/>
        </p:nvSpPr>
        <p:spPr>
          <a:xfrm>
            <a:off x="1862280" y="1433520"/>
            <a:ext cx="1676160" cy="5238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interest rat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savings rates &amp; credit c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938240" y="2490840"/>
            <a:ext cx="1600200" cy="304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sset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house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862280" y="3786120"/>
            <a:ext cx="160020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pectation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Businesses &amp;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1862280" y="5081760"/>
            <a:ext cx="1676160" cy="3045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100160" y="2948040"/>
            <a:ext cx="83808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icial Inte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Set by the M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938760" y="1728720"/>
            <a:ext cx="1143000" cy="12193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 + I + 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938760" y="3405240"/>
            <a:ext cx="1143000" cy="11430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X -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5262480" y="2414520"/>
            <a:ext cx="990720" cy="13716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rives short-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6558120" y="2490840"/>
            <a:ext cx="1323720" cy="1447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hang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 the output 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(actual GDP relativ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o potential GDP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5272200" y="4309920"/>
            <a:ext cx="9903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6624720" y="4776840"/>
            <a:ext cx="12189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sumer Pr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2624040" y="1962000"/>
            <a:ext cx="290520" cy="478080"/>
          </a:xfrm>
          <a:prstGeom prst="upDownArrow">
            <a:avLst>
              <a:gd name="adj1" fmla="val 50000"/>
              <a:gd name="adj2" fmla="val 3276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2614680" y="288144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2624040" y="4395960"/>
            <a:ext cx="304920" cy="599760"/>
          </a:xfrm>
          <a:prstGeom prst="upDownArrow">
            <a:avLst>
              <a:gd name="adj1" fmla="val 50000"/>
              <a:gd name="adj2" fmla="val 391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328760" y="3786120"/>
            <a:ext cx="495360" cy="13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1328760" y="3738600"/>
            <a:ext cx="466560" cy="25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1328760" y="1757160"/>
            <a:ext cx="49536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1328760" y="2671560"/>
            <a:ext cx="5619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538440" y="5157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3767040" y="17283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3614400" y="1728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3538080" y="2643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3462480" y="4091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3757680" y="2262240"/>
            <a:ext cx="2952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767040" y="3786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5091120" y="3795840"/>
            <a:ext cx="6573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5081760" y="1957320"/>
            <a:ext cx="64764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6253200" y="3176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538440" y="5386320"/>
            <a:ext cx="206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5605560" y="48621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191360" y="3943440"/>
            <a:ext cx="0" cy="82872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867280" y="4848120"/>
            <a:ext cx="752760" cy="24768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nterest rates affec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gregate Demand and Supply 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"/>
          <p:cNvSpPr/>
          <p:nvPr/>
        </p:nvSpPr>
        <p:spPr>
          <a:xfrm>
            <a:off x="2476440" y="2324160"/>
            <a:ext cx="0" cy="29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1692360" y="22683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892840" y="527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519360" y="2436840"/>
            <a:ext cx="2268720" cy="2235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H="1">
            <a:off x="2495520" y="3679920"/>
            <a:ext cx="2263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994200" y="290520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4565520" y="345132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H="1" flipV="1">
            <a:off x="2469960" y="3057120"/>
            <a:ext cx="167940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4140000" y="3071880"/>
            <a:ext cx="12600" cy="219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"/>
          <p:cNvSpPr/>
          <p:nvPr/>
        </p:nvSpPr>
        <p:spPr>
          <a:xfrm>
            <a:off x="2476440" y="2324160"/>
            <a:ext cx="0" cy="29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692360" y="22683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892840" y="527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519360" y="2436840"/>
            <a:ext cx="2268720" cy="2235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2495520" y="3679920"/>
            <a:ext cx="2263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892680" y="281628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540320" y="341316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 flipH="1" flipV="1">
            <a:off x="2469960" y="3057120"/>
            <a:ext cx="167940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4140000" y="3071880"/>
            <a:ext cx="12600" cy="219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2038320" y="295596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2038320" y="356544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905280" y="530532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4540320" y="5318280"/>
            <a:ext cx="50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3314880" y="2832120"/>
            <a:ext cx="2705040" cy="17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086520" y="2730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108400" y="232416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2692440" y="2425320"/>
            <a:ext cx="2400120" cy="160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"/>
          <p:cNvSpPr/>
          <p:nvPr/>
        </p:nvSpPr>
        <p:spPr>
          <a:xfrm>
            <a:off x="247644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2476440" y="5257800"/>
            <a:ext cx="449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666800" y="17733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803920" y="52768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3201840" y="2093760"/>
            <a:ext cx="2586240" cy="257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5705640" y="466092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611440" y="43909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249552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77504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212724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450540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5370480" y="18543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4143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164200" y="16128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1022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405160" y="2365200"/>
            <a:ext cx="0" cy="28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516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0680" y="2271600"/>
            <a:ext cx="77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of DVD play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86600" y="53164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 deman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81560" y="2481120"/>
            <a:ext cx="2234880" cy="219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7064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681280" y="2641680"/>
            <a:ext cx="2749680" cy="1484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00640" y="232884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 of DVD play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01920" y="3255840"/>
            <a:ext cx="188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1480" y="324972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5960" y="3154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0960" y="5270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46480" y="2343240"/>
            <a:ext cx="2365560" cy="2338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75320" y="46911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1596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4948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147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"/>
          <p:cNvSpPr/>
          <p:nvPr/>
        </p:nvSpPr>
        <p:spPr>
          <a:xfrm>
            <a:off x="1684440" y="18446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684440" y="527364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874800" y="17892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6108840" y="532296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2409840" y="2109960"/>
            <a:ext cx="258588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873680" y="466884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835280" y="45021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 flipH="1">
            <a:off x="1703520" y="3657600"/>
            <a:ext cx="22636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983040" y="3684600"/>
            <a:ext cx="0" cy="1581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335240" y="3505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728880" y="5300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ative Output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4578480" y="187020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 flipV="1">
            <a:off x="-377640" y="11520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4316400" y="1636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4325760" y="52941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784520" y="2413080"/>
            <a:ext cx="258588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4208400" y="498780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436920" y="4056120"/>
            <a:ext cx="792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H="1" flipV="1">
            <a:off x="1681200" y="4064040"/>
            <a:ext cx="175248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3143160" y="5302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344600" y="39276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"/>
          <p:cNvSpPr/>
          <p:nvPr/>
        </p:nvSpPr>
        <p:spPr>
          <a:xfrm>
            <a:off x="1144440" y="2289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1144440" y="5718240"/>
            <a:ext cx="33181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334800" y="223344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965240" y="6113520"/>
            <a:ext cx="169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870200" y="2554200"/>
            <a:ext cx="2585880" cy="257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4334040" y="511344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295280" y="49467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1163160" y="4102200"/>
            <a:ext cx="22640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443400" y="4129200"/>
            <a:ext cx="0" cy="1581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795240" y="39495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3189240" y="5745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-AS Analysis Causes of 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4038480" y="231444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-917280" y="559080"/>
            <a:ext cx="4959000" cy="42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776760" y="20811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3786120" y="57387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244520" y="2857680"/>
            <a:ext cx="2586240" cy="2577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668760" y="543240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897280" y="4500720"/>
            <a:ext cx="7920" cy="12189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H="1" flipV="1">
            <a:off x="1141560" y="4508640"/>
            <a:ext cx="175248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603520" y="5746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804960" y="4371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2903400" y="6013440"/>
            <a:ext cx="5018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 flipV="1">
            <a:off x="1533600" y="3036600"/>
            <a:ext cx="720720" cy="61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4853160" y="229716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4843440" y="5710320"/>
            <a:ext cx="359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4121280" y="223344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4954680" y="2422440"/>
            <a:ext cx="2692440" cy="27100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7485120" y="515304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002200" y="49467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 flipV="1">
            <a:off x="4870440" y="4102200"/>
            <a:ext cx="17604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634080" y="412920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4518000" y="3949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6364440" y="5745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7229520" y="231444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 flipV="1">
            <a:off x="2271600" y="560880"/>
            <a:ext cx="4959000" cy="429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61" y="52"/>
                </a:moveTo>
                <a:arcTo wR="10800" hR="10800" stAng="-5061754" swAng="5061754"/>
                <a:lnTo>
                  <a:pt x="10800" y="10800"/>
                </a:lnTo>
                <a:close/>
              </a:path>
              <a:path fill="none" w="21600" h="21600">
                <a:moveTo>
                  <a:pt x="11861" y="52"/>
                </a:moveTo>
                <a:arcTo wR="10800" hR="10800" stAng="-5061754" swAng="506175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6951600" y="20890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8104320" y="230040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7826400" y="2082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V="1">
            <a:off x="1859400" y="953280"/>
            <a:ext cx="6244560" cy="390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7827840" y="574056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402160" y="2351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7132680" y="57466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8066160" y="515448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H="1" flipV="1">
            <a:off x="4856040" y="4222800"/>
            <a:ext cx="24638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7294680" y="4210200"/>
            <a:ext cx="0" cy="1490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4511520" y="41022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1295280" y="144792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ll in 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4965840" y="1447920"/>
            <a:ext cx="29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ise in LRAS greater than increase in 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1668600" y="5249880"/>
            <a:ext cx="359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779480" y="1962000"/>
            <a:ext cx="2692440" cy="27100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4309920" y="46926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H="1" flipV="1">
            <a:off x="1695600" y="3641760"/>
            <a:ext cx="17604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45924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1892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4054320" y="18543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-902880" y="101160"/>
            <a:ext cx="4959000" cy="429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61" y="52"/>
                </a:moveTo>
                <a:arcTo wR="10800" hR="10800" stAng="-5061754" swAng="5061754"/>
                <a:lnTo>
                  <a:pt x="10800" y="10800"/>
                </a:lnTo>
                <a:close/>
              </a:path>
              <a:path fill="none" w="21600" h="21600">
                <a:moveTo>
                  <a:pt x="11861" y="52"/>
                </a:moveTo>
                <a:arcTo wR="10800" hR="10800" stAng="-5061754" swAng="506175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377676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4929120" y="18399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4651200" y="16225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 flipV="1">
            <a:off x="-1315440" y="493560"/>
            <a:ext cx="6244560" cy="39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465300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227320" y="18907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3957480" y="528624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4890960" y="46944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 flipH="1" flipV="1">
            <a:off x="1681200" y="3762360"/>
            <a:ext cx="24638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119480" y="3749760"/>
            <a:ext cx="0" cy="1490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1328760" y="3641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6100920" y="530712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913280" y="469260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 flipH="1">
            <a:off x="1695240" y="3641760"/>
            <a:ext cx="3136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7209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Long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29264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445000" y="1839960"/>
            <a:ext cx="972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67440" y="16225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-799560" y="493560"/>
            <a:ext cx="6244560" cy="39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534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5345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16888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114720" y="1917720"/>
            <a:ext cx="2700360" cy="270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4818240" y="36543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579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653080" y="458316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"/>
          <p:cNvSpPr/>
          <p:nvPr/>
        </p:nvSpPr>
        <p:spPr>
          <a:xfrm>
            <a:off x="1676520" y="2192400"/>
            <a:ext cx="0" cy="30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1676520" y="5257800"/>
            <a:ext cx="5919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839880" y="21430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5872320" y="5324400"/>
            <a:ext cx="181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Long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70560" y="2187720"/>
            <a:ext cx="9360" cy="30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4286160" y="19843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45000" y="2217600"/>
            <a:ext cx="9720" cy="303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160960" y="19922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168880" y="52801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F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4265640" y="528156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YF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-221760" y="1329120"/>
            <a:ext cx="4793760" cy="25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655920" y="1340280"/>
            <a:ext cx="4793760" cy="28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057400" y="39067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955960" y="418608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"/>
          <p:cNvSpPr/>
          <p:nvPr/>
        </p:nvSpPr>
        <p:spPr>
          <a:xfrm>
            <a:off x="21337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2133720" y="5256360"/>
            <a:ext cx="4744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1347840" y="17334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37516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774880" y="2014560"/>
            <a:ext cx="2670120" cy="2657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394240" y="464508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2604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H="1">
            <a:off x="21528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44323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7845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42512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 Demand an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50277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7128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995720" y="18082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47750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-4996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21351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21380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7859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41878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9830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6100920" y="530712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522520" y="2039760"/>
            <a:ext cx="2584440" cy="2584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4921200" y="462924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H="1" flipV="1">
            <a:off x="1695240" y="3569760"/>
            <a:ext cx="236988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4046400" y="3573360"/>
            <a:ext cx="0" cy="1663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327320" y="3433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817800" y="5286240"/>
            <a:ext cx="40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ifts in Aggregate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4556160" y="2057400"/>
            <a:ext cx="23760" cy="320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4414680" y="184140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317760" y="2031840"/>
            <a:ext cx="2322720" cy="2308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5478480" y="434484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133668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1712880" y="21826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4518000" y="489276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 flipV="1">
            <a:off x="1689120" y="4000680"/>
            <a:ext cx="1852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532320" y="3978360"/>
            <a:ext cx="0" cy="126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33540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1320840" y="3863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"/>
          <p:cNvSpPr/>
          <p:nvPr/>
        </p:nvSpPr>
        <p:spPr>
          <a:xfrm>
            <a:off x="1676520" y="1508040"/>
            <a:ext cx="0" cy="374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676520" y="5249880"/>
            <a:ext cx="56163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866880" y="142416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5791320" y="5235480"/>
            <a:ext cx="160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4881600" y="4653000"/>
            <a:ext cx="5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1819440" y="44067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79404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sk of Demand Pull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4300560" y="1596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997360" y="1689120"/>
            <a:ext cx="2643120" cy="2651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502240" y="435276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133668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668760" y="1517760"/>
            <a:ext cx="2584440" cy="2593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6051600" y="408456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 flipH="1" flipV="1">
            <a:off x="1692000" y="2398680"/>
            <a:ext cx="2873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1330200" y="2254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2347920" y="1878120"/>
            <a:ext cx="65736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254400" y="1871640"/>
            <a:ext cx="65736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1676520" y="5257800"/>
            <a:ext cx="50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835200" y="17334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5168880" y="5307120"/>
            <a:ext cx="16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4865760" y="4637160"/>
            <a:ext cx="49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18032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13273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7940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rnal Shock – Higher Oil Prices and a Tightening of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4245120" y="1541520"/>
            <a:ext cx="61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4317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-9568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16779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 flipH="1">
            <a:off x="16808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13287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37306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5258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1895400" y="21430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4613400" y="4900680"/>
            <a:ext cx="49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397320" y="364644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193920" y="5280120"/>
            <a:ext cx="38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1676520" y="5257800"/>
            <a:ext cx="4516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4975200" y="5275440"/>
            <a:ext cx="12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4937040" y="4605480"/>
            <a:ext cx="44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1803240" y="4390920"/>
            <a:ext cx="7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32732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794040" y="528480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ifts in Short Run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300560" y="15811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4317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-956880" y="97200"/>
            <a:ext cx="5520960" cy="39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677960" y="3995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1680840" y="3429000"/>
            <a:ext cx="2066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1328760" y="3278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730680" y="3424320"/>
            <a:ext cx="7920" cy="1828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3525840" y="527832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502200" y="337320"/>
            <a:ext cx="4069440" cy="43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2424240" y="4654440"/>
            <a:ext cx="7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4151160" y="3828960"/>
            <a:ext cx="0" cy="1425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994200" y="5286240"/>
            <a:ext cx="38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46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4320" y="1828800"/>
            <a:ext cx="79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 of Sterling in Eu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46840" y="53164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Pounds Sterl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46600" y="4708440"/>
            <a:ext cx="73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86280" y="171468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uppl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469116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61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 flipH="1">
            <a:off x="1890720" y="2119320"/>
            <a:ext cx="1440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890720" y="5257800"/>
            <a:ext cx="51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1068480" y="205740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5473800" y="530712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2770200" y="2239920"/>
            <a:ext cx="2432160" cy="2432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5072040" y="4708440"/>
            <a:ext cx="5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20415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19098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41893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15415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400860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 in Aggregat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4784760" y="2071800"/>
            <a:ext cx="9360" cy="319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-171720" y="99360"/>
            <a:ext cx="495972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748040" y="20257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45957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3639960" y="2160720"/>
            <a:ext cx="2214720" cy="2179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5732640" y="4344840"/>
            <a:ext cx="52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18871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1550880" y="29354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45878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43592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1676520" y="5257800"/>
            <a:ext cx="439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811080" y="182880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General Pric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5045040" y="527544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National Inc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665440" y="2357280"/>
            <a:ext cx="2322360" cy="2314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4857840" y="4708440"/>
            <a:ext cx="5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1827360" y="448632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H="1">
            <a:off x="1695600" y="3641760"/>
            <a:ext cx="2263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3975120" y="3668760"/>
            <a:ext cx="0" cy="158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327320" y="3489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794040" y="528624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ll in Aggregat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570560" y="1854360"/>
            <a:ext cx="9360" cy="340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-385560" y="99360"/>
            <a:ext cx="4959000" cy="42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5" y="31"/>
                </a:moveTo>
                <a:arcTo wR="10800" hR="10800" stAng="-5659549" swAng="5659549"/>
                <a:lnTo>
                  <a:pt x="10800" y="10800"/>
                </a:lnTo>
                <a:close/>
              </a:path>
              <a:path fill="none" w="21600" h="21600">
                <a:moveTo>
                  <a:pt x="9985" y="31"/>
                </a:moveTo>
                <a:arcTo wR="10800" hR="10800" stAng="-5659549" swAng="565954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4316400" y="162864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43815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f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352680" y="2066760"/>
            <a:ext cx="2287800" cy="227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5518080" y="4344840"/>
            <a:ext cx="52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1672920" y="3079800"/>
            <a:ext cx="2708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328760" y="293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4373640" y="3067200"/>
            <a:ext cx="0" cy="215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145040" y="528012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"/>
          <p:cNvSpPr/>
          <p:nvPr/>
        </p:nvSpPr>
        <p:spPr>
          <a:xfrm>
            <a:off x="1862280" y="1433520"/>
            <a:ext cx="1676160" cy="5238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ket interest rat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savings rates &amp; credit c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1938240" y="2490840"/>
            <a:ext cx="1600200" cy="304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sset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.g. house 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862280" y="3786120"/>
            <a:ext cx="160020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pectation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Businesses &amp; consu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1862280" y="5081760"/>
            <a:ext cx="1676160" cy="3045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1100160" y="2948040"/>
            <a:ext cx="83808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fficial Inte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Set by the M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938760" y="1728720"/>
            <a:ext cx="1143000" cy="12193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 + I + 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938760" y="3405240"/>
            <a:ext cx="1143000" cy="11430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N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X -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5262480" y="2414520"/>
            <a:ext cx="990720" cy="13716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rives short-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6558120" y="2490840"/>
            <a:ext cx="1323720" cy="14479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.e. chang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 the output 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(actual GDP relativ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o potential GDP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272200" y="4309920"/>
            <a:ext cx="9903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6624720" y="4776840"/>
            <a:ext cx="1218960" cy="5335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nsumer Pr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2624040" y="1962000"/>
            <a:ext cx="290520" cy="478080"/>
          </a:xfrm>
          <a:prstGeom prst="upDownArrow">
            <a:avLst>
              <a:gd name="adj1" fmla="val 50000"/>
              <a:gd name="adj2" fmla="val 3276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2614680" y="288144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2624040" y="4395960"/>
            <a:ext cx="304920" cy="599760"/>
          </a:xfrm>
          <a:prstGeom prst="upDownArrow">
            <a:avLst>
              <a:gd name="adj1" fmla="val 50000"/>
              <a:gd name="adj2" fmla="val 391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1328760" y="3786120"/>
            <a:ext cx="495360" cy="13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1328760" y="3738600"/>
            <a:ext cx="466560" cy="25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1328760" y="1757160"/>
            <a:ext cx="495360" cy="11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1328760" y="2671560"/>
            <a:ext cx="561960" cy="27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538440" y="5157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3767040" y="172836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H="1">
            <a:off x="3614400" y="1728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3538080" y="2643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H="1">
            <a:off x="3462480" y="4091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757680" y="2262240"/>
            <a:ext cx="295200" cy="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767040" y="3786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5091120" y="3795840"/>
            <a:ext cx="65736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5081760" y="1957320"/>
            <a:ext cx="64764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6253200" y="3176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538440" y="5386320"/>
            <a:ext cx="206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605560" y="48621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7191360" y="3943440"/>
            <a:ext cx="0" cy="82872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5867280" y="4848120"/>
            <a:ext cx="752760" cy="24768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Run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284560" y="2036880"/>
            <a:ext cx="0" cy="32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286000" y="5334120"/>
            <a:ext cx="524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401840" y="1998720"/>
            <a:ext cx="82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lation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853240" y="5364000"/>
            <a:ext cx="16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employment Rat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H="1" flipV="1">
            <a:off x="2971800" y="-30528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5408640" y="4226040"/>
            <a:ext cx="0" cy="11080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528516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H="1">
            <a:off x="2286000" y="4243320"/>
            <a:ext cx="3124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995120" y="4130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3962520" y="365724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041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1995120" y="35766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V="1">
            <a:off x="3124080" y="2742840"/>
            <a:ext cx="0" cy="2590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29707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2286000" y="27432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2026800" y="26622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897880" y="4141800"/>
            <a:ext cx="1437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Run Phillips Cur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2304720" y="3695760"/>
            <a:ext cx="16398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ectations-Augmented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284560" y="1878120"/>
            <a:ext cx="0" cy="34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2286000" y="5334120"/>
            <a:ext cx="524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441440" y="1808280"/>
            <a:ext cx="8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Inflation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5853240" y="5364000"/>
            <a:ext cx="16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nemployment Rate 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H="1" flipV="1">
            <a:off x="2971800" y="-30528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V="1">
            <a:off x="5408640" y="4226040"/>
            <a:ext cx="0" cy="11080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528516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2286000" y="4243320"/>
            <a:ext cx="3124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995120" y="41306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3962520" y="365724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041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95120" y="35766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 flipV="1">
            <a:off x="3101760" y="2719080"/>
            <a:ext cx="21960" cy="26146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970720" y="5359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U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H="1">
            <a:off x="2286000" y="27432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2026800" y="26622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5941800" y="414180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H="1">
            <a:off x="2305080" y="3695760"/>
            <a:ext cx="16574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 flipV="1">
            <a:off x="3012840" y="-740160"/>
            <a:ext cx="594432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5949720" y="372096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H="1" flipV="1">
            <a:off x="2877840" y="204120"/>
            <a:ext cx="594360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5" y="0"/>
                </a:moveTo>
                <a:arcTo wR="10800" hR="10800" stAng="-5385667" swAng="4832739"/>
                <a:lnTo>
                  <a:pt x="10800" y="10800"/>
                </a:lnTo>
                <a:close/>
              </a:path>
              <a:path fill="none" w="21600" h="21600">
                <a:moveTo>
                  <a:pt x="10845" y="0"/>
                </a:moveTo>
                <a:arcTo wR="10800" hR="10800" stAng="-5385667" swAng="4832739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5943240" y="4691160"/>
            <a:ext cx="565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Arial"/>
              </a:rPr>
              <a:t>SRP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939960" y="1773360"/>
            <a:ext cx="73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Hours of Work Supplied (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Labour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-1356840" y="400680"/>
            <a:ext cx="7016400" cy="44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5029200" y="22305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Individual Labour Supply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-335880" y="812880"/>
            <a:ext cx="4990320" cy="40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1087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108739"/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3125880" y="1784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Individual Labour Supply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3913200" y="4278240"/>
            <a:ext cx="15840" cy="9590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4670280" y="2917800"/>
            <a:ext cx="6480" cy="2317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4394160" y="1930320"/>
            <a:ext cx="6480" cy="3306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711600" y="5305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4189320" y="53071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4459320" y="53071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pply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041480" y="1781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406680" y="5283360"/>
            <a:ext cx="101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H="1">
            <a:off x="1808280" y="2952720"/>
            <a:ext cx="2394000" cy="1244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044960" y="2730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H="1" flipV="1">
            <a:off x="1671480" y="3459240"/>
            <a:ext cx="149400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327320" y="33386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2855880" y="5261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4035600" y="1782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 flipH="1" flipV="1">
            <a:off x="1682640" y="3699000"/>
            <a:ext cx="107496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2770200" y="3693960"/>
            <a:ext cx="7920" cy="1552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516040" y="52545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1328760" y="363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4665600" y="133992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Labour Demand when Labour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1317600" y="134136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Labour Demand when Labour Supply is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466236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647712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481500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5165280" y="1859040"/>
            <a:ext cx="1009800" cy="2512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6118200" y="17715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short ru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H="1" flipV="1">
            <a:off x="4683240" y="3443400"/>
            <a:ext cx="8604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5707080" y="3035160"/>
            <a:ext cx="0" cy="2208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43131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556092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472140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708336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H="1" flipV="1">
            <a:off x="4659120" y="3030120"/>
            <a:ext cx="10587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518080" y="3457440"/>
            <a:ext cx="0" cy="1791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24016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4314960" y="2921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228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4809960" y="3454200"/>
            <a:ext cx="2578320" cy="56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034040" y="3510000"/>
            <a:ext cx="73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635328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6173640" y="528804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5356080" y="323388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5545080" y="276552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093000" y="2301840"/>
            <a:ext cx="1122120" cy="1112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 flipH="1" flipV="1">
            <a:off x="4660560" y="3683160"/>
            <a:ext cx="16938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4322880" y="357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6221520" y="344952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pply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400480" y="1782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02724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484200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3530160" y="1859040"/>
            <a:ext cx="1009800" cy="2512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4483080" y="177156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short ru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flipH="1" flipV="1">
            <a:off x="3048120" y="3443400"/>
            <a:ext cx="8604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071960" y="3035160"/>
            <a:ext cx="0" cy="2208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267804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392580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308628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544824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 flipH="1" flipV="1">
            <a:off x="3024000" y="3030120"/>
            <a:ext cx="10587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882960" y="3457440"/>
            <a:ext cx="0" cy="1791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6050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2679840" y="2921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53716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3174840" y="3454200"/>
            <a:ext cx="2578320" cy="56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398920" y="3510000"/>
            <a:ext cx="73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471816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4538520" y="528804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720960" y="323388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909960" y="276552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457880" y="2301840"/>
            <a:ext cx="1122120" cy="1112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H="1" flipV="1">
            <a:off x="3025440" y="3683160"/>
            <a:ext cx="169380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2673360" y="357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586400" y="344952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Rate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2400480" y="1782720"/>
            <a:ext cx="57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027240" y="5259240"/>
            <a:ext cx="36464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82624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H="1">
            <a:off x="3269880" y="239220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4689360" y="2144880"/>
            <a:ext cx="11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3679920" y="2354400"/>
            <a:ext cx="2068560" cy="2233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692680" y="247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551560" y="450360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024360" y="3184560"/>
            <a:ext cx="26128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270180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062240" y="29559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818240" y="295740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216320" y="317196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4024440" y="5310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4971960" y="3189240"/>
            <a:ext cx="0" cy="207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4764240" y="5311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ing the Natural Rate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3035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2400480" y="1782720"/>
            <a:ext cx="57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al 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3027240" y="5259240"/>
            <a:ext cx="36464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582624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17988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 flipH="1">
            <a:off x="3269880" y="239220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5014800" y="2192400"/>
            <a:ext cx="40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3679920" y="2354400"/>
            <a:ext cx="2068560" cy="2233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5692680" y="247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5551560" y="450360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024360" y="3184560"/>
            <a:ext cx="26128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270180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4062240" y="295596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818240" y="2957400"/>
            <a:ext cx="27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216320" y="317196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4024440" y="5310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971960" y="3189240"/>
            <a:ext cx="0" cy="207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4764240" y="5311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3422160" y="2584440"/>
            <a:ext cx="2033640" cy="1468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5167440" y="2400480"/>
            <a:ext cx="39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616280" y="3191040"/>
            <a:ext cx="0" cy="207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4452840" y="295740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4414680" y="5311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5257800"/>
            <a:ext cx="513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4668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61000" y="471024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03840" y="52783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72320" y="185904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20840" y="3435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2800" y="52801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on Control of Labou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18050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1289160" y="17668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179712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3611520" y="52848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1949400" y="2151000"/>
            <a:ext cx="2094120" cy="20764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514600" y="1954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union controll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H="1">
            <a:off x="3405240" y="3603600"/>
            <a:ext cx="15840" cy="1639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3274920" y="52783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2565360" y="2023920"/>
            <a:ext cx="7920" cy="3224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2874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903840" y="4172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1792440" y="3616200"/>
            <a:ext cx="456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1397160" y="34876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 flipV="1">
            <a:off x="1793520" y="2760840"/>
            <a:ext cx="76212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398600" y="2616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4529160" y="18320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4013280" y="17683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4521240" y="52610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6335640" y="528624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937040" y="1963800"/>
            <a:ext cx="720720" cy="300024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4976640" y="19558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union controll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5319720" y="3605040"/>
            <a:ext cx="15840" cy="1640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5181480" y="528012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5019840" y="2025720"/>
            <a:ext cx="7920" cy="3224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818240" y="5281560"/>
            <a:ext cx="3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5595840" y="487980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6303960" y="3492360"/>
            <a:ext cx="7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to the Econo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121280" y="34257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H="1" flipV="1">
            <a:off x="4517640" y="2341080"/>
            <a:ext cx="515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4122720" y="2220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8" name=""/>
          <p:cNvGrpSpPr/>
          <p:nvPr/>
        </p:nvGrpSpPr>
        <p:grpSpPr>
          <a:xfrm>
            <a:off x="3500280" y="2330280"/>
            <a:ext cx="1376640" cy="1293840"/>
            <a:chOff x="3500280" y="2330280"/>
            <a:chExt cx="1376640" cy="1293840"/>
          </a:xfrm>
        </p:grpSpPr>
        <p:sp>
          <p:nvSpPr>
            <p:cNvPr id="3669" name=""/>
            <p:cNvSpPr/>
            <p:nvPr/>
          </p:nvSpPr>
          <p:spPr>
            <a:xfrm>
              <a:off x="3500280" y="2330280"/>
              <a:ext cx="1376640" cy="1293840"/>
            </a:xfrm>
            <a:prstGeom prst="octagon">
              <a:avLst>
                <a:gd name="adj" fmla="val 29287"/>
              </a:avLst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538440" y="2692440"/>
              <a:ext cx="1297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Core Group of Work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(Permanent Staff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2298600" y="3208320"/>
            <a:ext cx="1293840" cy="857160"/>
            <a:chOff x="2298600" y="3208320"/>
            <a:chExt cx="1293840" cy="857160"/>
          </a:xfrm>
        </p:grpSpPr>
        <p:sp>
          <p:nvSpPr>
            <p:cNvPr id="3672" name=""/>
            <p:cNvSpPr/>
            <p:nvPr/>
          </p:nvSpPr>
          <p:spPr>
            <a:xfrm>
              <a:off x="2298600" y="320832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447640" y="339876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Short Term Contract Work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4" name=""/>
          <p:cNvGrpSpPr/>
          <p:nvPr/>
        </p:nvGrpSpPr>
        <p:grpSpPr>
          <a:xfrm>
            <a:off x="3562200" y="3686040"/>
            <a:ext cx="1293840" cy="857160"/>
            <a:chOff x="3562200" y="3686040"/>
            <a:chExt cx="1293840" cy="857160"/>
          </a:xfrm>
        </p:grpSpPr>
        <p:sp>
          <p:nvSpPr>
            <p:cNvPr id="3675" name=""/>
            <p:cNvSpPr/>
            <p:nvPr/>
          </p:nvSpPr>
          <p:spPr>
            <a:xfrm>
              <a:off x="3562200" y="368604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711240" y="387648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Sub-Contracted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4822920" y="3200400"/>
            <a:ext cx="1293840" cy="857160"/>
            <a:chOff x="4822920" y="3200400"/>
            <a:chExt cx="1293840" cy="857160"/>
          </a:xfrm>
        </p:grpSpPr>
        <p:sp>
          <p:nvSpPr>
            <p:cNvPr id="3678" name=""/>
            <p:cNvSpPr/>
            <p:nvPr/>
          </p:nvSpPr>
          <p:spPr>
            <a:xfrm>
              <a:off x="4822920" y="320040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964040" y="3295800"/>
              <a:ext cx="1008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Trainees on Government Employment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0" name=""/>
          <p:cNvGrpSpPr/>
          <p:nvPr/>
        </p:nvGrpSpPr>
        <p:grpSpPr>
          <a:xfrm>
            <a:off x="2109960" y="2257560"/>
            <a:ext cx="1293480" cy="857160"/>
            <a:chOff x="2109960" y="2257560"/>
            <a:chExt cx="1293480" cy="857160"/>
          </a:xfrm>
        </p:grpSpPr>
        <p:sp>
          <p:nvSpPr>
            <p:cNvPr id="3681" name=""/>
            <p:cNvSpPr/>
            <p:nvPr/>
          </p:nvSpPr>
          <p:spPr>
            <a:xfrm>
              <a:off x="2109960" y="2257560"/>
              <a:ext cx="129348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58640" y="2448000"/>
              <a:ext cx="1007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Agency Staff (Temp Worker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992840" y="2251080"/>
            <a:ext cx="1293840" cy="857160"/>
            <a:chOff x="4992840" y="2251080"/>
            <a:chExt cx="1293840" cy="857160"/>
          </a:xfrm>
        </p:grpSpPr>
        <p:sp>
          <p:nvSpPr>
            <p:cNvPr id="3684" name=""/>
            <p:cNvSpPr/>
            <p:nvPr/>
          </p:nvSpPr>
          <p:spPr>
            <a:xfrm>
              <a:off x="4992840" y="2251080"/>
              <a:ext cx="1293840" cy="8571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41880" y="244152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</a:rPr>
                <a:t>Workers with Job Share Agre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2133720" y="1984320"/>
            <a:ext cx="41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lexible Employment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Minimum W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1676520" y="1836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1676520" y="526572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1144440" y="175752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5735520" y="5315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2081160" y="22478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4865760" y="48988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flipH="1">
            <a:off x="1860120" y="2170080"/>
            <a:ext cx="1792440" cy="21844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417840" y="18176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Labour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flipH="1">
            <a:off x="1673280" y="249084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387600" y="249084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919080" y="23223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10212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flipH="1" flipV="1">
            <a:off x="1666440" y="306396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328760" y="29034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4800600" y="2335320"/>
            <a:ext cx="198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inimum Wage (Wage Floo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2889360" y="307188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26510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21034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2309760" y="249228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nopsony Buyer of 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4865760" y="48909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1860120" y="3479760"/>
            <a:ext cx="2987640" cy="8668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4916520" y="321948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 flipV="1">
            <a:off x="1682640" y="3978000"/>
            <a:ext cx="1463760" cy="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1328760" y="3848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H="1">
            <a:off x="3143160" y="3294000"/>
            <a:ext cx="7920" cy="1941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84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1854360" y="2306160"/>
            <a:ext cx="2717640" cy="18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4549680" y="1881360"/>
            <a:ext cx="103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of Labour (M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001880" y="31590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 flipV="1">
            <a:off x="1684080" y="3297240"/>
            <a:ext cx="146340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nopsony Buyer of 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865760" y="48909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860120" y="3479760"/>
            <a:ext cx="2987640" cy="8668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916520" y="321948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 flipH="1" flipV="1">
            <a:off x="1682640" y="3821040"/>
            <a:ext cx="193536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1328760" y="3719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3143160" y="3294000"/>
            <a:ext cx="7920" cy="1941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84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 flipV="1">
            <a:off x="1854360" y="2306160"/>
            <a:ext cx="2717640" cy="18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4549680" y="1881360"/>
            <a:ext cx="103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of Labour (M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1001880" y="31590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H="1" flipV="1">
            <a:off x="1684080" y="3297240"/>
            <a:ext cx="146340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 flipH="1">
            <a:off x="3638160" y="3841920"/>
            <a:ext cx="17640" cy="1384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24019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H="1">
            <a:off x="2705040" y="2874960"/>
            <a:ext cx="7920" cy="2379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H="1" flipV="1">
            <a:off x="1674360" y="2877840"/>
            <a:ext cx="1025640" cy="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1001880" y="276876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335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>
            <a:off x="1669680" y="2496960"/>
            <a:ext cx="668520" cy="5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996840" y="239220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2301480" y="2513160"/>
            <a:ext cx="20520" cy="270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011320" y="5273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opsony Buyer of Labour with a N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676520" y="5257800"/>
            <a:ext cx="512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age Rate (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573552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mployment of Labour (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271600" y="20527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4952880" y="485928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 = 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1860480" y="3216240"/>
            <a:ext cx="3927600" cy="1130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821200" y="2854440"/>
            <a:ext cx="784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abour Supply (AC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 flipH="1" flipV="1">
            <a:off x="1690200" y="3898800"/>
            <a:ext cx="1685880" cy="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1328760" y="3760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3325680" y="3127320"/>
            <a:ext cx="7920" cy="2114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30322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001880" y="300816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 flipH="1" flipV="1">
            <a:off x="1668600" y="3122640"/>
            <a:ext cx="1668240" cy="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671480" y="3465360"/>
            <a:ext cx="4160880" cy="1620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838840" y="341460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National Minimum W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 flipV="1">
            <a:off x="4867200" y="2865240"/>
            <a:ext cx="914400" cy="603000"/>
          </a:xfrm>
          <a:prstGeom prst="line">
            <a:avLst/>
          </a:prstGeom>
          <a:ln w="316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5799240" y="2387520"/>
            <a:ext cx="78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arginal Cost with N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 flipH="1">
            <a:off x="5560560" y="2536920"/>
            <a:ext cx="204840" cy="3538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201680" y="334476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6600"/>
                </a:solidFill>
                <a:latin typeface="Arial"/>
              </a:rPr>
              <a:t>N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684600" y="3460680"/>
            <a:ext cx="7920" cy="1793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3398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327480" y="4432320"/>
            <a:ext cx="3142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 flipV="1">
            <a:off x="1309680" y="3549240"/>
            <a:ext cx="0" cy="322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"/>
          <p:cNvSpPr/>
          <p:nvPr/>
        </p:nvSpPr>
        <p:spPr>
          <a:xfrm>
            <a:off x="1695600" y="4478400"/>
            <a:ext cx="954000" cy="76032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594320" y="3352680"/>
            <a:ext cx="961920" cy="10782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690560" y="2571840"/>
            <a:ext cx="962280" cy="186192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2441520" y="1789200"/>
            <a:ext cx="955800" cy="3163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164040" y="4888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1676520" y="2557440"/>
            <a:ext cx="100152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666880" y="2575080"/>
            <a:ext cx="0" cy="26827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1295280" y="2421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24210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4670280" y="2965320"/>
            <a:ext cx="2710080" cy="1131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070760" y="4064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4575240" y="3328920"/>
            <a:ext cx="100152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5556240" y="3317760"/>
            <a:ext cx="9360" cy="194148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4194000" y="31370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5319720" y="5289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5587920" y="126360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Economic Profit (Price &gt; 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opoly and Profit Mar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 flipV="1">
            <a:off x="1445400" y="538560"/>
            <a:ext cx="2533320" cy="39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1" y="2600"/>
                </a:moveTo>
                <a:arcTo wR="10800" hR="10800" stAng="-7836188" swAng="6111386"/>
                <a:lnTo>
                  <a:pt x="10800" y="10800"/>
                </a:lnTo>
                <a:close/>
              </a:path>
              <a:path fill="none" w="21600" h="21600">
                <a:moveTo>
                  <a:pt x="3771" y="2600"/>
                </a:moveTo>
                <a:arcTo wR="10800" hR="10800" stAng="-7836188" swAng="611138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 flipV="1">
            <a:off x="4407840" y="540000"/>
            <a:ext cx="2532960" cy="39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1" y="2600"/>
                </a:moveTo>
                <a:arcTo wR="10800" hR="10800" stAng="-7836188" swAng="6111386"/>
                <a:lnTo>
                  <a:pt x="10800" y="10800"/>
                </a:lnTo>
                <a:close/>
              </a:path>
              <a:path fill="none" w="21600" h="21600">
                <a:moveTo>
                  <a:pt x="3771" y="2600"/>
                </a:moveTo>
                <a:arcTo wR="10800" hR="10800" stAng="-7836188" swAng="6111386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543480" y="3137040"/>
            <a:ext cx="47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6553080" y="315108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1677960" y="4456080"/>
            <a:ext cx="10018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1198440" y="4303800"/>
            <a:ext cx="47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4568760" y="4441680"/>
            <a:ext cx="10018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129200" y="4297320"/>
            <a:ext cx="47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4975200" y="1295280"/>
            <a:ext cx="682560" cy="2127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599000" y="4467240"/>
            <a:ext cx="946080" cy="76824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4975200" y="1617840"/>
            <a:ext cx="677880" cy="22032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5589720" y="158256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Total Cost (AC x Outp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Trad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1673280" y="2701800"/>
            <a:ext cx="1216080" cy="254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4575240" y="5259240"/>
            <a:ext cx="258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4570560" y="3174840"/>
            <a:ext cx="541080" cy="2079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1641600" y="1844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THE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1682640" y="3959280"/>
            <a:ext cx="5986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1179360" y="2602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2273400" y="3948120"/>
            <a:ext cx="7920" cy="13111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4824360" y="4149720"/>
            <a:ext cx="0" cy="11048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4992840" y="1846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600552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1173240" y="38098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2013120" y="52689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25700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3978360" y="3076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4964040" y="529128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 flipV="1">
            <a:off x="4562640" y="4154400"/>
            <a:ext cx="2696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4600440" y="530064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1682640" y="3340080"/>
            <a:ext cx="1930680" cy="1895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4599000" y="2517840"/>
            <a:ext cx="2008080" cy="2727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GERM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4992840" y="1603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674856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322800" y="52545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4064040" y="2371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1160640" y="320688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6284880" y="52354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6100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uantity of Council Hous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20840" y="3824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2400" y="2759040"/>
            <a:ext cx="0" cy="2494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5200" y="528804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72320" y="1859040"/>
            <a:ext cx="95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pply + Su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1665000" y="2784600"/>
            <a:ext cx="257652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20840" y="2673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men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24320" y="2781360"/>
            <a:ext cx="0" cy="10094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91160" y="3181320"/>
            <a:ext cx="0" cy="1009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53080" y="35067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bsidy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53640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682640" y="3340080"/>
            <a:ext cx="920880" cy="1924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4570560" y="2489040"/>
            <a:ext cx="1779480" cy="2756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1679400" y="16016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the UNITED STA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4992840" y="16034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PF FOR CAN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674856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22748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4064040" y="23716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1160640" y="320688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601812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>
            <a:off x="1676520" y="1465200"/>
            <a:ext cx="0" cy="379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528480" y="1828800"/>
            <a:ext cx="11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1673280" y="2701800"/>
            <a:ext cx="1216080" cy="25434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4575240" y="5259240"/>
            <a:ext cx="206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3508200" y="183024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Freez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4570560" y="3174840"/>
            <a:ext cx="541080" cy="2079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PF FOR THE 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and Production Possibility Fro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1682640" y="3959280"/>
            <a:ext cx="598680" cy="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179360" y="26020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2273400" y="3948120"/>
            <a:ext cx="7920" cy="13111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824360" y="4149720"/>
            <a:ext cx="0" cy="11048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4635360" y="162720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PF FOR 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2921040" y="554832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5653080" y="5549760"/>
            <a:ext cx="113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ishwa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173240" y="380988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2013120" y="5268960"/>
            <a:ext cx="5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570040" y="5254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978360" y="307656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964040" y="529128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 flipV="1">
            <a:off x="4562640" y="4154400"/>
            <a:ext cx="2696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4600440" y="530064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4575240" y="3187800"/>
            <a:ext cx="954000" cy="207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1677960" y="1593720"/>
            <a:ext cx="1214640" cy="3664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712880" y="2619360"/>
            <a:ext cx="2476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 flipV="1">
            <a:off x="5091120" y="5049720"/>
            <a:ext cx="2714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1165320" y="146052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5394240" y="5292720"/>
            <a:ext cx="43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5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1232280" y="1722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1676520" y="1773360"/>
            <a:ext cx="0" cy="36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1676520" y="5410080"/>
            <a:ext cx="577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6788880" y="547992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2924280" y="1849320"/>
            <a:ext cx="3095640" cy="3103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5893560" y="4932360"/>
            <a:ext cx="122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2438280" y="1913040"/>
            <a:ext cx="2575080" cy="2582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4900680" y="1928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1690560" y="3732120"/>
            <a:ext cx="557388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6517080" y="3481560"/>
            <a:ext cx="83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4809960" y="3719520"/>
            <a:ext cx="0" cy="1679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193920" y="3757680"/>
            <a:ext cx="0" cy="1641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4623120" y="5472000"/>
            <a:ext cx="34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3042360" y="54738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1328400" y="3625920"/>
            <a:ext cx="34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1690560" y="3186000"/>
            <a:ext cx="5550120" cy="7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6062400" y="294804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World Price + Tari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4246560" y="3181320"/>
            <a:ext cx="0" cy="2230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751200" y="3193920"/>
            <a:ext cx="0" cy="2230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4068000" y="547380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517920" y="5473800"/>
            <a:ext cx="3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Q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782880" y="3205080"/>
            <a:ext cx="438120" cy="506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219480" y="5086440"/>
            <a:ext cx="476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 flipH="1">
            <a:off x="4295880" y="5099040"/>
            <a:ext cx="48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844800" y="330372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112760" y="3056040"/>
            <a:ext cx="56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rebuchet MS"/>
              </a:rPr>
              <a:t>Pw + 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00000" y="1828800"/>
            <a:ext cx="70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Average Weekly Rent 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61000" y="530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uantity of Council Hous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6280" y="171468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20840" y="3824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62400" y="3902040"/>
            <a:ext cx="0" cy="1351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5200" y="528804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72320" y="185904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pply +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men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95840" y="2438280"/>
            <a:ext cx="0" cy="1009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62440" y="302112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Subsidy per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666800" y="1047600"/>
            <a:ext cx="9720" cy="421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33560" y="990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6100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66800" y="1351080"/>
            <a:ext cx="3321000" cy="3321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42000" y="4708440"/>
            <a:ext cx="80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05360" y="17146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706400" y="3930480"/>
            <a:ext cx="254664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2400" y="2759040"/>
            <a:ext cx="0" cy="2494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75200" y="528804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288960" y="209700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72320" y="185904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+ Export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1665000" y="2784600"/>
            <a:ext cx="257652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24320" y="2781360"/>
            <a:ext cx="0" cy="10094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02000" y="266400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02000" y="379728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30520" y="30639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49280" y="266400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49280" y="32259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9920" y="377820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49280" y="12254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8120" y="4952880"/>
            <a:ext cx="4197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 of capital goo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304200" y="3085920"/>
            <a:ext cx="346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of consum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 goods and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1000" y="1490760"/>
            <a:ext cx="0" cy="34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1920" y="489276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143000" y="2133720"/>
            <a:ext cx="716256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40080" y="3354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352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4560" y="3083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505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2435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7560" y="269244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19440" y="332748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29280" y="3720960"/>
            <a:ext cx="101520" cy="88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76520" y="2249640"/>
            <a:ext cx="0" cy="30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33560" y="2200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005280"/>
            <a:ext cx="3397320" cy="766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40320" y="3797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287080" y="2511360"/>
            <a:ext cx="2243160" cy="225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2314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413080" y="2828880"/>
            <a:ext cx="3487680" cy="2021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81600" y="266544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20840" y="3435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2800" y="52801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676520" y="2206800"/>
            <a:ext cx="0" cy="305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9240" y="21574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66800" y="2884320"/>
            <a:ext cx="3940200" cy="887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75320" y="374976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3040" y="2308320"/>
            <a:ext cx="244476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48240" y="211608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19120" y="32115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13080" y="2814480"/>
            <a:ext cx="3486240" cy="203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34080" y="262080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655280" y="3556080"/>
            <a:ext cx="29955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59480" y="3548160"/>
            <a:ext cx="6120" cy="1708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0920" y="340344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4680" y="3111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8680" y="33274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89200" y="3376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30280" y="275580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24400" y="52815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18000" y="52833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21080" y="388152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674360" y="4103640"/>
            <a:ext cx="20005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54040" y="3970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676520" y="2192400"/>
            <a:ext cx="0" cy="30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5257800"/>
            <a:ext cx="51800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28600" y="21146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30880" y="5275440"/>
            <a:ext cx="7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30680" y="1982880"/>
            <a:ext cx="69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287080" y="2336760"/>
            <a:ext cx="2444760" cy="2428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53080" y="2225520"/>
            <a:ext cx="101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 post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674720" y="3030480"/>
            <a:ext cx="23400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413080" y="2422440"/>
            <a:ext cx="4168800" cy="24274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61000" y="2263680"/>
            <a:ext cx="104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 pre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86000" y="290664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662120" y="3914640"/>
            <a:ext cx="23479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013280" y="2206800"/>
            <a:ext cx="22320" cy="30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87440" y="3781440"/>
            <a:ext cx="3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90800" y="5294160"/>
            <a:ext cx="3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873080" y="178128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70200" y="342756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5240" y="1701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03600" y="34686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98840" y="1790640"/>
            <a:ext cx="0" cy="163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95960" y="343692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60640" y="1711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29360" y="34783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00640" y="376092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97400" y="540720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62440" y="36813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30800" y="54482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8120" y="376236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74880" y="540864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39920" y="36831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08280" y="54500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70200" y="2668680"/>
            <a:ext cx="1960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56240" y="2932560"/>
            <a:ext cx="3459600" cy="19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398840" y="2595240"/>
            <a:ext cx="2200320" cy="56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638600" y="3796920"/>
            <a:ext cx="881280" cy="159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54880" y="245412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33600" y="2392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43320" y="36957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33840" y="3724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14760" y="16239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07200" y="16336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08280" y="37130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71960" y="37148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ly curves with different price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873080" y="178128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70200" y="342756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35240" y="1701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03600" y="346860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98840" y="1790640"/>
            <a:ext cx="0" cy="163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95960" y="343692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60640" y="1711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29360" y="347832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00640" y="376092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7400" y="540720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62440" y="36813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30800" y="54482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8120" y="3762360"/>
            <a:ext cx="0" cy="163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5408640"/>
            <a:ext cx="233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39920" y="36831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08280" y="5450040"/>
            <a:ext cx="6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70200" y="2668680"/>
            <a:ext cx="1960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33600" y="239220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43320" y="36957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24320" y="518148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14760" y="16239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07200" y="16336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08280" y="37130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71960" y="37148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curves with different price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10000" y="2438280"/>
            <a:ext cx="2247840" cy="495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2982960"/>
            <a:ext cx="64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7800" y="3790800"/>
            <a:ext cx="0" cy="1609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05040" y="4087800"/>
            <a:ext cx="71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86280" y="3762360"/>
            <a:ext cx="371520" cy="1571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5257800"/>
            <a:ext cx="48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73720" y="52912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42000" y="4708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86280" y="171468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964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61000" y="4670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03840" y="5278320"/>
            <a:ext cx="33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 flipH="1">
            <a:off x="1676160" y="2379600"/>
            <a:ext cx="14040" cy="28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5257800"/>
            <a:ext cx="25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88840" y="23860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of Good 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27400" y="5291280"/>
            <a:ext cx="20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of Good 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972800" y="2903400"/>
            <a:ext cx="1027080" cy="1852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55880" y="283068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6100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38560" y="188748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92840" y="470052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87080" y="1944720"/>
            <a:ext cx="2808360" cy="2820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94200" y="173052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1672920" y="2808360"/>
            <a:ext cx="16095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62320" y="2832120"/>
            <a:ext cx="0" cy="2424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27320" y="2695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671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67120" y="186516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61000" y="469440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687320" y="2968560"/>
            <a:ext cx="23842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20840" y="28717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71960" y="2968560"/>
            <a:ext cx="0" cy="2284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7640" y="5286240"/>
            <a:ext cx="3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814040" y="1862280"/>
            <a:ext cx="2387880" cy="23922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13280" y="1663560"/>
            <a:ext cx="51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4776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47760" y="5257800"/>
            <a:ext cx="327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480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427560" y="52912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54280" y="1916280"/>
            <a:ext cx="611280" cy="3044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151080" y="49546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1244520" y="2808360"/>
            <a:ext cx="160992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33560" y="2832120"/>
            <a:ext cx="0" cy="2424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98560" y="2695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383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452600" y="2216160"/>
            <a:ext cx="2527200" cy="1344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79920" y="187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02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02320" y="5259240"/>
            <a:ext cx="25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59360" y="18302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15040" y="53006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98880" y="3009960"/>
            <a:ext cx="2381400" cy="287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7760" y="33368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699080" y="3111480"/>
            <a:ext cx="10713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56400" y="3084480"/>
            <a:ext cx="0" cy="2173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52760" y="2998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770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906800" y="2452680"/>
            <a:ext cx="2084400" cy="1109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18240" y="20937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 pre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5288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19400" y="2451240"/>
            <a:ext cx="0" cy="293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3493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00440" y="20336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 Market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86040" y="35114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cess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637000" y="3413160"/>
            <a:ext cx="971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22840" y="4952880"/>
            <a:ext cx="2882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art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90120" y="2815200"/>
            <a:ext cx="3078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Other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1490760"/>
            <a:ext cx="0" cy="34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1920" y="489276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8120" y="3048120"/>
            <a:ext cx="4876920" cy="365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83" y="2"/>
                </a:moveTo>
                <a:arcTo wR="10800" hR="10800" stAng="-5341755" swAng="5341755"/>
                <a:lnTo>
                  <a:pt x="10800" y="10800"/>
                </a:lnTo>
                <a:close/>
              </a:path>
              <a:path fill="none" w="21600" h="21600">
                <a:moveTo>
                  <a:pt x="10983" y="2"/>
                </a:moveTo>
                <a:arcTo wR="10800" hR="10800" stAng="-5341755" swAng="5341755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143000" y="2133720"/>
            <a:ext cx="716256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40080" y="3354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352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733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108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3505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422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46680" y="2727000"/>
            <a:ext cx="493560" cy="74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33560" y="1828800"/>
            <a:ext cx="5745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£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342040" y="528804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of Rented Proper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9400" y="2451240"/>
            <a:ext cx="0" cy="293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 (Rent) Cei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936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00440" y="20336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ee Market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86040" y="351144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cess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37000" y="3413160"/>
            <a:ext cx="9712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6520" y="5257800"/>
            <a:ext cx="481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7080" y="52880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43280" y="470844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789200" y="1871640"/>
            <a:ext cx="2293920" cy="22971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032360" y="17892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673280" y="3355920"/>
            <a:ext cx="31528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9080" y="321156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3280" y="5284800"/>
            <a:ext cx="35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um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666440" y="2817720"/>
            <a:ext cx="144612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28760" y="2665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2960" y="3247920"/>
            <a:ext cx="18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ximum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95600" y="3365640"/>
            <a:ext cx="0" cy="1885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636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29120" y="2813040"/>
            <a:ext cx="0" cy="2428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972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2339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25880" y="5284800"/>
            <a:ext cx="35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5257800"/>
            <a:ext cx="4930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89680" y="5307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of outp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6600" y="147636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19080" y="2314440"/>
            <a:ext cx="78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3544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666440" y="305604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28760" y="2895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2327400"/>
            <a:ext cx="19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 Floor (Guarante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889360" y="306396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5104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460600" y="1952640"/>
            <a:ext cx="62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cess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333520" y="2360520"/>
            <a:ext cx="831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0348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76520" y="5257800"/>
            <a:ext cx="4259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91280" y="531504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48909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73280" y="172260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19080" y="2346480"/>
            <a:ext cx="78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Support Schemes – Buffer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1666440" y="3056040"/>
            <a:ext cx="124164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28760" y="2927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2327400"/>
            <a:ext cx="198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inimum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889360" y="3063960"/>
            <a:ext cx="7920" cy="2171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33840" y="53211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44880" y="5316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97080" y="531324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5257800"/>
            <a:ext cx="601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6100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8116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188800" y="179856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306600" y="147636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673280" y="2482920"/>
            <a:ext cx="3152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73400" y="248292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9080" y="2314440"/>
            <a:ext cx="78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93544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ce Support Schemes – Buffer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66824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28760" y="3387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2327400"/>
            <a:ext cx="19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9999"/>
                </a:solidFill>
                <a:latin typeface="Arial"/>
              </a:rPr>
              <a:t>Price Floor (Guarante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40524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84560" y="5294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333520" y="2360520"/>
            <a:ext cx="15670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0348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09760" y="2484360"/>
            <a:ext cx="7920" cy="2759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2889000" y="1855800"/>
            <a:ext cx="1298520" cy="2827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070520" y="1477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54808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48080" y="5257800"/>
            <a:ext cx="439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2308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52720" y="223992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3732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060360" y="2363760"/>
            <a:ext cx="1050840" cy="2262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2400" y="210492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03480" y="290988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53980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76560" y="3387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27680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056120" y="5294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2260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84680" y="3073320"/>
            <a:ext cx="0" cy="217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760920" y="2451240"/>
            <a:ext cx="1023840" cy="2232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99080" y="223524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549160" y="3065400"/>
            <a:ext cx="124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685880" y="3086280"/>
            <a:ext cx="1200240" cy="457200"/>
          </a:xfrm>
          <a:prstGeom prst="rect">
            <a:avLst/>
          </a:prstGeom>
          <a:solidFill>
            <a:srgbClr val="96969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76520" y="1666800"/>
            <a:ext cx="0" cy="359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5257800"/>
            <a:ext cx="491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062000" y="1666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4688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71480" y="1830240"/>
            <a:ext cx="3225960" cy="3225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65760" y="4890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189160" y="2146320"/>
            <a:ext cx="1154160" cy="2479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92560" y="20574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31920" y="296712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Market Supply – Consum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1668240" y="3556080"/>
            <a:ext cx="17240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05000" y="3444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405240" y="3537000"/>
            <a:ext cx="7920" cy="169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27320" y="5280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5104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3120" y="3073320"/>
            <a:ext cx="0" cy="217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889360" y="2232000"/>
            <a:ext cx="1139760" cy="24512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89520" y="20970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677600" y="3065400"/>
            <a:ext cx="124308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33640" y="3124080"/>
            <a:ext cx="419040" cy="419400"/>
          </a:xfrm>
          <a:prstGeom prst="rtTriangle">
            <a:avLst/>
          </a:prstGeom>
          <a:solidFill>
            <a:srgbClr val="969696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 rot="5400000">
            <a:off x="1874880" y="3205080"/>
            <a:ext cx="1574640" cy="1927440"/>
          </a:xfrm>
          <a:prstGeom prst="rtTriangle">
            <a:avLst/>
          </a:prstGeom>
          <a:solidFill>
            <a:srgbClr val="c0c0c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43280" y="470844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62200" y="36100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Producer Surp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666800" y="1457280"/>
            <a:ext cx="9720" cy="380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76520" y="1541520"/>
            <a:ext cx="4073400" cy="3711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72160" y="49467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62600" y="18748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111400" y="370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11400" y="2563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30600" y="4459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092480" y="4459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695600" y="2000160"/>
            <a:ext cx="1904760" cy="1333440"/>
          </a:xfrm>
          <a:prstGeom prst="rtTriangle">
            <a:avLst/>
          </a:prstGeom>
          <a:solidFill>
            <a:srgbClr val="99cc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85880" y="1969920"/>
            <a:ext cx="3502080" cy="2444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19760" y="43750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62200" y="27338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Consumer Surp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0200" y="13716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47680" y="553068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560" y="138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4520" y="684360"/>
            <a:ext cx="274320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" y="6017"/>
                </a:moveTo>
                <a:arcTo wR="10800" hR="10800" stAng="-9222699" swAng="9222699"/>
                <a:lnTo>
                  <a:pt x="10800" y="10800"/>
                </a:lnTo>
                <a:close/>
              </a:path>
              <a:path fill="none" w="21600" h="21600">
                <a:moveTo>
                  <a:pt x="1117" y="6017"/>
                </a:moveTo>
                <a:arcTo wR="10800" hR="10800" stAng="-9222699" swAng="922269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05800" y="165888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97600" y="455760"/>
            <a:ext cx="411408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1" y="8310"/>
                </a:moveTo>
                <a:arcTo wR="10800" hR="10800" stAng="-10000215" swAng="10000215"/>
                <a:lnTo>
                  <a:pt x="10800" y="10800"/>
                </a:lnTo>
                <a:close/>
              </a:path>
              <a:path fill="none" w="21600" h="21600">
                <a:moveTo>
                  <a:pt x="291" y="8310"/>
                </a:moveTo>
                <a:arcTo wR="10800" hR="10800" stAng="-10000215" swAng="10000215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1440" y="212400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828800"/>
            <a:ext cx="495288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7920" y="454032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33560" y="18288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07120" y="5307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3280" y="4708440"/>
            <a:ext cx="7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38760" y="1865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327320" y="3211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43548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25880" y="2514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Equilibrium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1360" y="2948040"/>
            <a:ext cx="0" cy="2937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Failur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fficiency / Welfare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90560" y="1979640"/>
            <a:ext cx="3980160" cy="1938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634000" y="384012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= Private Benefit = Soci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1677960" y="2030400"/>
            <a:ext cx="3016440" cy="2309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73520" y="183816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rivate Marginal Cost (Suppl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1679040" y="2901960"/>
            <a:ext cx="190044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547800" y="2903400"/>
            <a:ext cx="21960" cy="2345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86160" y="5275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17640" y="1765440"/>
            <a:ext cx="753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671480" y="1928880"/>
            <a:ext cx="2043360" cy="2396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76680" y="169056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065400" y="2658960"/>
            <a:ext cx="22320" cy="2573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03400" y="52848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643120" y="3203280"/>
            <a:ext cx="6480" cy="374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1836720" y="4441320"/>
            <a:ext cx="6480" cy="397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830240" y="448308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680840" y="2657520"/>
            <a:ext cx="1423800" cy="15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378080" y="2798640"/>
            <a:ext cx="32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79520" y="25542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3571920" y="2122560"/>
            <a:ext cx="1440" cy="714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1960" y="4603680"/>
            <a:ext cx="219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151160" y="25686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ckling 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81280" y="3224160"/>
            <a:ext cx="1905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rebuchet MS"/>
              </a:rPr>
              <a:t>Negative Exter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981080" y="2133720"/>
            <a:ext cx="1600200" cy="1143000"/>
            <a:chOff x="1981080" y="2133720"/>
            <a:chExt cx="1600200" cy="1143000"/>
          </a:xfrm>
        </p:grpSpPr>
        <p:sp>
          <p:nvSpPr>
            <p:cNvPr id="885" name=""/>
            <p:cNvSpPr/>
            <p:nvPr/>
          </p:nvSpPr>
          <p:spPr>
            <a:xfrm>
              <a:off x="1981080" y="213372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4200" y="251316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Tax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057400" y="3733920"/>
            <a:ext cx="1600200" cy="1143000"/>
            <a:chOff x="2057400" y="3733920"/>
            <a:chExt cx="1600200" cy="1143000"/>
          </a:xfrm>
        </p:grpSpPr>
        <p:sp>
          <p:nvSpPr>
            <p:cNvPr id="888" name=""/>
            <p:cNvSpPr/>
            <p:nvPr/>
          </p:nvSpPr>
          <p:spPr>
            <a:xfrm>
              <a:off x="2057400" y="373392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2320" y="391824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Pollution Trading Sche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962520" y="3809880"/>
            <a:ext cx="1600200" cy="1143000"/>
            <a:chOff x="3962520" y="3809880"/>
            <a:chExt cx="1600200" cy="1143000"/>
          </a:xfrm>
        </p:grpSpPr>
        <p:sp>
          <p:nvSpPr>
            <p:cNvPr id="891" name=""/>
            <p:cNvSpPr/>
            <p:nvPr/>
          </p:nvSpPr>
          <p:spPr>
            <a:xfrm>
              <a:off x="3962520" y="3809880"/>
              <a:ext cx="16002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67440" y="39942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Tax Cred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038480" y="1676520"/>
            <a:ext cx="1676520" cy="1143000"/>
            <a:chOff x="4038480" y="1676520"/>
            <a:chExt cx="1676520" cy="1143000"/>
          </a:xfrm>
        </p:grpSpPr>
        <p:sp>
          <p:nvSpPr>
            <p:cNvPr id="894" name=""/>
            <p:cNvSpPr/>
            <p:nvPr/>
          </p:nvSpPr>
          <p:spPr>
            <a:xfrm>
              <a:off x="4038480" y="1676520"/>
              <a:ext cx="167652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57800" y="1981440"/>
              <a:ext cx="1117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Voluntary Agre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715000" y="2895480"/>
            <a:ext cx="1676520" cy="1143000"/>
            <a:chOff x="5715000" y="2895480"/>
            <a:chExt cx="1676520" cy="1143000"/>
          </a:xfrm>
        </p:grpSpPr>
        <p:sp>
          <p:nvSpPr>
            <p:cNvPr id="897" name=""/>
            <p:cNvSpPr/>
            <p:nvPr/>
          </p:nvSpPr>
          <p:spPr>
            <a:xfrm>
              <a:off x="5715000" y="2895480"/>
              <a:ext cx="167652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34320" y="3200400"/>
              <a:ext cx="111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Trebuchet MS"/>
                </a:rPr>
                <a:t>Reg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09480" y="2071800"/>
            <a:ext cx="16002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Aggregates Le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Landfill 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Fuel D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Climate Change Levy (C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9480" y="388620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Emissions trading sche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Landfill per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67280" y="185904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Pestic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EU C02 from cars 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411480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Water quality legis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507528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99"/>
                </a:solidFill>
                <a:latin typeface="Trebuchet MS"/>
              </a:rPr>
              <a:t>Reduced VAT on installation of central he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90720" y="198108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4724280"/>
            <a:ext cx="13716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4114800" y="4800600"/>
            <a:ext cx="0" cy="8380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409720" y="1676520"/>
            <a:ext cx="17528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315200" y="3809520"/>
            <a:ext cx="0" cy="7621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39960" y="1773360"/>
            <a:ext cx="73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18040" y="52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uantity of Output (Q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93880" y="2001960"/>
            <a:ext cx="2930760" cy="24937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971960" y="4603680"/>
            <a:ext cx="2190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Private Marginal Benefit) =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Marginal Benefit (SM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3056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327480" y="201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Social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833280" y="2341440"/>
            <a:ext cx="9720" cy="4255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Social Welfare from Exter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740120" y="2008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4984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5719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06960" y="252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31734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24200" y="276084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3821040" y="2852280"/>
            <a:ext cx="569880" cy="43344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16200000">
            <a:off x="1834920" y="3619080"/>
            <a:ext cx="297000" cy="360360"/>
          </a:xfrm>
          <a:prstGeom prst="triangle">
            <a:avLst>
              <a:gd name="adj" fmla="val 62394"/>
            </a:avLst>
          </a:prstGeom>
          <a:solidFill>
            <a:srgbClr val="ff99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25720" y="363204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adweight loss of economic welf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76440" y="3002040"/>
            <a:ext cx="820800" cy="820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-1519560" y="2419560"/>
            <a:ext cx="642096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19440" y="4849920"/>
            <a:ext cx="14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220920" y="4959360"/>
            <a:ext cx="271440" cy="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165320" y="17146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186600" y="535464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Quantity of Ho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700600" y="49482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Private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899320" y="2781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3640" y="463860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+ Extern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 rot="5400000">
            <a:off x="4311000" y="2740680"/>
            <a:ext cx="1185840" cy="790560"/>
          </a:xfrm>
          <a:prstGeom prst="triangle">
            <a:avLst>
              <a:gd name="adj" fmla="val 68634"/>
            </a:avLst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it Goods and Welfar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029040" y="2266920"/>
            <a:ext cx="2762280" cy="276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700600" y="4948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2438280" y="2971800"/>
            <a:ext cx="3657600" cy="1828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27417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= 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46386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334120" y="3352680"/>
            <a:ext cx="0" cy="198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23072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068800" y="53229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065480" y="2076480"/>
            <a:ext cx="2563920" cy="2571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498760" y="316404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Bene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038480" y="3276720"/>
            <a:ext cx="420840" cy="61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982520" y="251460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980720" y="37339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487760" y="2039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Welfare loss where SMB&gt;PMB above output 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794120" y="2281320"/>
            <a:ext cx="7920" cy="10303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494240" y="2514240"/>
            <a:ext cx="0" cy="12193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381560" y="225900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430880" y="353052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18200" y="31226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786120" y="50468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996920" y="3930480"/>
            <a:ext cx="3692520" cy="1393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65880" y="5072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from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mand Curve for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432080" y="3911760"/>
            <a:ext cx="61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255760" y="3384720"/>
            <a:ext cx="7920" cy="1946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86120" y="53150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1980720" y="4026960"/>
            <a:ext cx="282600" cy="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1982520" y="3378240"/>
            <a:ext cx="282600" cy="7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33520" y="391320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442880" y="3271680"/>
            <a:ext cx="61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Valu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986280" y="4662360"/>
            <a:ext cx="1440" cy="677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upply and Dem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ly Efficient Provision of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117440" y="1738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73160" y="1757520"/>
            <a:ext cx="7920" cy="3576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008080" y="3083040"/>
            <a:ext cx="1971720" cy="225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70280" y="51260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Demand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996920" y="3930480"/>
            <a:ext cx="197964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354640" y="5111640"/>
            <a:ext cx="115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658960" y="1838160"/>
            <a:ext cx="1344600" cy="285768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003560" y="4692600"/>
            <a:ext cx="1633680" cy="6192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630520" y="1763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Demand A+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58920" y="2750760"/>
            <a:ext cx="3846600" cy="1919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15160" y="258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Trebuchet MS"/>
              </a:rPr>
              <a:t>Marginal Social Cost (MS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654360" y="3903840"/>
            <a:ext cx="9720" cy="143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392640" y="530856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 flipH="1" rot="16200000">
            <a:off x="3790800" y="2997000"/>
            <a:ext cx="873000" cy="511200"/>
          </a:xfrm>
          <a:prstGeom prst="triangle">
            <a:avLst>
              <a:gd name="adj" fmla="val 44444"/>
            </a:avLst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26080" y="2809800"/>
            <a:ext cx="110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530600" y="2932200"/>
            <a:ext cx="338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024520" y="3908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Ne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4266720" y="3187800"/>
            <a:ext cx="824040" cy="823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2465280" y="4470120"/>
            <a:ext cx="3944880" cy="655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219720" y="430056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Trebuchet MS"/>
              </a:rPr>
              <a:t>M</a:t>
            </a:r>
            <a:r>
              <a:rPr b="1" lang="en-US" sz="900" spc="-1" strike="noStrike">
                <a:solidFill>
                  <a:srgbClr val="008000"/>
                </a:solidFill>
                <a:latin typeface="Trebuchet MS"/>
              </a:rPr>
              <a:t>arginal Extern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gative Externalities – Pollution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181160" y="17542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4120" y="5410080"/>
            <a:ext cx="97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980720" y="1830240"/>
            <a:ext cx="9720" cy="3503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981080" y="5334120"/>
            <a:ext cx="49532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54160" y="2209680"/>
            <a:ext cx="2837160" cy="2819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533920" y="4987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B = S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438280" y="3095640"/>
            <a:ext cx="3394080" cy="1704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92680" y="29163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362320" y="2255400"/>
            <a:ext cx="2816280" cy="21639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084640" y="2084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S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494240" y="373068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962520" y="320040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7824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668760" y="531504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Q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495680" y="2754000"/>
            <a:ext cx="7920" cy="979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505320" y="32004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217600" y="2374920"/>
            <a:ext cx="3394080" cy="1704960"/>
          </a:xfrm>
          <a:prstGeom prst="line">
            <a:avLst/>
          </a:prstGeom>
          <a:ln w="255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519880" y="22431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rebuchet MS"/>
              </a:rPr>
              <a:t>PMC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676520" y="5249880"/>
            <a:ext cx="52750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152360" y="17654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9259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612880" y="164304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284800" y="446724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Limited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753160" y="31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Private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340160" y="2751120"/>
            <a:ext cx="7920" cy="2498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0942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Merit Goods and Health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65360" y="3371760"/>
            <a:ext cx="411480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-1528560" y="537480"/>
            <a:ext cx="6420240" cy="28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50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5023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80080" y="19130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Marginal Social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913200" y="2973240"/>
            <a:ext cx="0" cy="227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66696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082960" y="1882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351240" y="3162240"/>
            <a:ext cx="0" cy="209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0970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722840" y="4730760"/>
            <a:ext cx="24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 (Full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30712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076720" y="173844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or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048280" y="324648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Domestic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670040" y="291636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062680" y="270828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679400" y="250524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064120" y="22892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Arial"/>
              </a:rPr>
              <a:t>World Price + Su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328760" y="2776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322280" y="2357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738680" y="250812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845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811600" y="250200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54160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3750840" y="3349800"/>
            <a:ext cx="1266840" cy="6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76520" y="525780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44440" y="1749600"/>
            <a:ext cx="5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ice per to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30712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076720" y="1706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omestic Supply of Co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1673280" y="3355920"/>
            <a:ext cx="20001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681360" y="3363840"/>
            <a:ext cx="0" cy="18860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4354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al Export Subsi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048280" y="3214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omestic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70040" y="2916360"/>
            <a:ext cx="340524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062680" y="267660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79400" y="2505240"/>
            <a:ext cx="340524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64120" y="22575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World Price of Coal + Subsi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28760" y="27766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322280" y="2357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738680" y="250812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48452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811600" y="2502000"/>
            <a:ext cx="0" cy="2735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4160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3750840" y="3349800"/>
            <a:ext cx="1266840" cy="6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6520" y="5257800"/>
            <a:ext cx="537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021360" y="530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71880" y="1855800"/>
            <a:ext cx="281592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07000" y="4708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1682280" y="2139840"/>
            <a:ext cx="3503880" cy="28530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59520" y="18813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omestic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118040" y="3803760"/>
            <a:ext cx="7920" cy="144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27320" y="4092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8558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66800" y="424980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094360" y="4033800"/>
            <a:ext cx="90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679400" y="3807000"/>
            <a:ext cx="34052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95800" y="36147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ld Price + Tari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28760" y="36576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556160" y="4243320"/>
            <a:ext cx="7920" cy="1000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3020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597040" y="4230720"/>
            <a:ext cx="0" cy="1006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5908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127320" y="3805200"/>
            <a:ext cx="7920" cy="1446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498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90880" y="35528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000680" y="355284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95560" y="423864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076560" y="422928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438280" y="401940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57880" y="4029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67200" y="5010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895560" y="5010120"/>
            <a:ext cx="2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469880" y="1592280"/>
            <a:ext cx="1845000" cy="1844640"/>
          </a:xfrm>
          <a:prstGeom prst="rtTriangle">
            <a:avLst/>
          </a:prstGeom>
          <a:solidFill>
            <a:srgbClr val="ffff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87800" y="2351160"/>
            <a:ext cx="1812960" cy="1805040"/>
          </a:xfrm>
          <a:prstGeom prst="rtTriangle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54040" y="1494000"/>
            <a:ext cx="0" cy="37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54040" y="5257800"/>
            <a:ext cx="313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22320" y="17496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548160" y="52671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476360" y="2327400"/>
            <a:ext cx="2514600" cy="2498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49840" y="483552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2065320" y="2370240"/>
            <a:ext cx="240048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140360" y="2095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450440" y="3824280"/>
            <a:ext cx="1559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90880" y="3821040"/>
            <a:ext cx="0" cy="14288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04840" y="36878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72088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52600" y="1699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68440" y="2343240"/>
            <a:ext cx="1517760" cy="1469880"/>
          </a:xfrm>
          <a:prstGeom prst="rtTriangle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39880" y="1417680"/>
            <a:ext cx="23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Out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40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964040" y="5259240"/>
            <a:ext cx="313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432320" y="17510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058160" y="5268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986360" y="2328840"/>
            <a:ext cx="2514600" cy="24987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359480" y="48369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574960" y="2371680"/>
            <a:ext cx="240012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753320" y="209700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960440" y="3825720"/>
            <a:ext cx="15591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500880" y="3822840"/>
            <a:ext cx="0" cy="1428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14840" y="3689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2308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883040" y="310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Consumer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5925960" y="2698920"/>
            <a:ext cx="2400480" cy="2395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38960" y="244008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4960440" y="4176720"/>
            <a:ext cx="187812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344680"/>
            <a:ext cx="1517760" cy="1470240"/>
          </a:xfrm>
          <a:prstGeom prst="rtTriangle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16280" y="4040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843600" y="4175280"/>
            <a:ext cx="7920" cy="10857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0564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68440" y="1573200"/>
            <a:ext cx="2849400" cy="2825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152960" y="4416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459080" y="3452760"/>
            <a:ext cx="1901520" cy="158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06640" y="3316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373560" y="3465360"/>
            <a:ext cx="0" cy="17640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1940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869000" y="1419120"/>
            <a:ext cx="23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Outward Shift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1874880" y="2343240"/>
            <a:ext cx="1835280" cy="2422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584520" y="21114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1673280" y="3300480"/>
            <a:ext cx="13190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990880" y="3295800"/>
            <a:ext cx="0" cy="19764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327320" y="32115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43540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9124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16112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96744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054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18148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488360" y="425124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692240" y="313704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86480" y="3132000"/>
            <a:ext cx="0" cy="2106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224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322880" y="2976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1682640" y="3645000"/>
            <a:ext cx="1046160" cy="6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714760" y="3646440"/>
            <a:ext cx="7920" cy="1593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2268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328760" y="35067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665600" y="145404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n Out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365120" y="145584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n Inward Shift in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167360" y="45417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973680" y="226224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1672920" y="346716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327320" y="3314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9113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682640" y="3785760"/>
            <a:ext cx="1190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65600" y="3773520"/>
            <a:ext cx="7920" cy="1477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114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328760" y="36100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65600" y="1339920"/>
            <a:ext cx="3386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Market Demand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ong Run Market Supply is more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317600" y="1341360"/>
            <a:ext cx="3386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Market Demand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hort Run Market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66236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58332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1500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486072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95952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465912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15168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3131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8975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721400" y="26686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083360" y="49579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4668480" y="3787920"/>
            <a:ext cx="119052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843520" y="3782880"/>
            <a:ext cx="7920" cy="14781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597640" y="52801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314960" y="36115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172280" y="449100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4809960" y="3363480"/>
            <a:ext cx="2965680" cy="65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588080" y="315432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L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53280" y="3673440"/>
            <a:ext cx="7920" cy="1606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056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014880" y="32180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230880" y="3457440"/>
            <a:ext cx="2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75640" y="2793960"/>
            <a:ext cx="561960" cy="5619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5257800"/>
            <a:ext cx="50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55520" y="1785960"/>
            <a:ext cx="61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1720" y="5362560"/>
            <a:ext cx="130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4480" y="19828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429000"/>
            <a:ext cx="259056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3962520"/>
            <a:ext cx="31240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819520"/>
            <a:ext cx="19810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819520"/>
            <a:ext cx="0" cy="24382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429000"/>
            <a:ext cx="0" cy="18288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0600" y="336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0600" y="27241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0600" y="3897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28800" y="214956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183200" y="448632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989520" y="230976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672920" y="346716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16548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327320" y="3314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911320" y="528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36920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16112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67440" y="2263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0544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18148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488360" y="425124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018200" y="3665520"/>
            <a:ext cx="0" cy="15732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75648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322880" y="3508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735200" y="266688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097160" y="495612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1682640" y="3075120"/>
            <a:ext cx="1076400" cy="46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62280" y="3075120"/>
            <a:ext cx="14400" cy="216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76440" y="52783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28760" y="2951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665600" y="133992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Demand and a Ri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365120" y="134136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Inward Shift in Demand and a Fall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5528880" y="289260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651800" y="268596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4654440" y="3652920"/>
            <a:ext cx="2355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1717560" y="2128680"/>
            <a:ext cx="2006640" cy="20116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625920" y="19382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771280" y="5551560"/>
            <a:ext cx="36036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332000" y="3077640"/>
            <a:ext cx="0" cy="3891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56360" y="5508720"/>
            <a:ext cx="841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362480" y="3441600"/>
            <a:ext cx="7920" cy="223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11488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61432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729320" y="232740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41272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0528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06676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65112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199404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075280" y="4354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1360" y="4062240"/>
            <a:ext cx="0" cy="11764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55760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066760" y="39798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411280" y="1339920"/>
            <a:ext cx="39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Coffee Demand and a Rise in Coffee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005000" y="269388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095880" y="24638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2414160" y="4105440"/>
            <a:ext cx="24210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02040" y="5508720"/>
            <a:ext cx="91296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052720" y="3463920"/>
            <a:ext cx="0" cy="6397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11488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2614320" y="1876320"/>
            <a:ext cx="1827000" cy="2890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08480" y="1668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2413080" y="3182760"/>
            <a:ext cx="119520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19440" y="3178080"/>
            <a:ext cx="0" cy="2068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06676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398760" y="5262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18132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543640" y="4219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973680" y="2635200"/>
            <a:ext cx="0" cy="2630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668760" y="526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66760" y="24955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006640" y="1339920"/>
            <a:ext cx="39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n Outward Shift in Oil Demand when Supply is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414520" y="2620800"/>
            <a:ext cx="1563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241632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416320" y="52592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930920" y="5284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of DVD play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568600" y="21510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906800" y="454356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2614320" y="1876320"/>
            <a:ext cx="1827000" cy="28908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308480" y="166860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2413080" y="3182760"/>
            <a:ext cx="1195200" cy="8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19440" y="3178080"/>
            <a:ext cx="0" cy="20685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066760" y="30780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398760" y="5262480"/>
            <a:ext cx="3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181320" y="1843200"/>
            <a:ext cx="242424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43640" y="421956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973680" y="2635200"/>
            <a:ext cx="0" cy="26305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668760" y="526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066760" y="24955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2414520" y="2620800"/>
            <a:ext cx="1563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374840" y="18241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 of DVD play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0700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0700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435400" y="1782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91040" y="528480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2227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560920" y="454356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32684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367240" y="226368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30668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594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720880" y="3316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305240" y="5286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092040" y="380376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886280" y="3817800"/>
            <a:ext cx="0" cy="142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624560" y="5288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22680" y="3666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786120" y="26701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916600" y="24242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041480" y="178128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597120" y="528336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973680" y="22622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665360" y="3467160"/>
            <a:ext cx="8856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538360" y="345456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593800" y="5284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035600" y="1782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591240" y="528480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822920" y="215100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161120" y="454356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868640" y="2517840"/>
            <a:ext cx="2244600" cy="2249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967440" y="226368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667040" y="3468600"/>
            <a:ext cx="14763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15960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321080" y="3316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905440" y="5286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4692240" y="3803760"/>
            <a:ext cx="178596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486480" y="3817800"/>
            <a:ext cx="0" cy="142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224760" y="5288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322880" y="3666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735200" y="2658960"/>
            <a:ext cx="2423880" cy="2406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097160" y="4956120"/>
            <a:ext cx="4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1682640" y="3785760"/>
            <a:ext cx="1190880" cy="1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865600" y="3773520"/>
            <a:ext cx="7920" cy="14778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293920" y="527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28760" y="36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300560" y="1339920"/>
            <a:ext cx="338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n Outward Shift in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023840" y="1341360"/>
            <a:ext cx="338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n Inward Shift in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1852200" y="2077920"/>
            <a:ext cx="2065320" cy="2078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45080" y="18032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330200" y="33336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386320" y="26701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16800" y="24242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676520" y="525780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041480" y="1781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597120" y="528336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874520" y="251604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73680" y="226224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1665360" y="3538440"/>
            <a:ext cx="82080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482920" y="3517920"/>
            <a:ext cx="0" cy="17222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7208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67028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70280" y="5259240"/>
            <a:ext cx="26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035600" y="17827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591240" y="5284800"/>
            <a:ext cx="82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24600" y="1790640"/>
            <a:ext cx="823680" cy="31100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875200" y="4908600"/>
            <a:ext cx="4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713120" y="2092320"/>
            <a:ext cx="224496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40360" y="1827360"/>
            <a:ext cx="74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 flipV="1">
            <a:off x="4667040" y="3476520"/>
            <a:ext cx="8794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64160" y="3456000"/>
            <a:ext cx="0" cy="1795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321080" y="331632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286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4676760" y="4216320"/>
            <a:ext cx="1108080" cy="7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772240" y="4206960"/>
            <a:ext cx="17280" cy="10303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549760" y="52880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322880" y="4064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760400" y="3327480"/>
            <a:ext cx="2325960" cy="6699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902040" y="4106880"/>
            <a:ext cx="4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 flipV="1">
            <a:off x="1671120" y="3683160"/>
            <a:ext cx="1289160" cy="14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60640" y="3678120"/>
            <a:ext cx="7920" cy="1592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206800" y="52704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328760" y="35463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00560" y="133992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 Tax when Demand is Price In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23840" y="1341360"/>
            <a:ext cx="338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 Tax When Demand is Price Ela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852200" y="2077920"/>
            <a:ext cx="2065320" cy="2078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394080" y="1803240"/>
            <a:ext cx="77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 + T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330200" y="3405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5116320" y="2620800"/>
            <a:ext cx="2244600" cy="22496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278840" y="2400480"/>
            <a:ext cx="4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Taxes and Elasticity of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676520" y="5257800"/>
            <a:ext cx="486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33560" y="18288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904000" y="5283360"/>
            <a:ext cx="73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2287440" y="2189160"/>
            <a:ext cx="2571840" cy="25765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794120" y="202392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677960" y="3262320"/>
            <a:ext cx="209556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671480" y="2502000"/>
            <a:ext cx="2847960" cy="17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09680" y="31528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309680" y="2401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309680" y="3979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50208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6384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2656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772080" y="3273480"/>
            <a:ext cx="7920" cy="1976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35640" y="2513160"/>
            <a:ext cx="7920" cy="2719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3765600" y="3841920"/>
            <a:ext cx="14400" cy="1407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676520" y="5257800"/>
            <a:ext cx="4876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104840" y="17413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94320" y="5364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677960" y="3833640"/>
            <a:ext cx="2095560" cy="97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679400" y="4091040"/>
            <a:ext cx="12542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671480" y="3406680"/>
            <a:ext cx="2847960" cy="17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295280" y="3656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295280" y="32702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295280" y="39513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3052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6668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94080" y="5364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525920" y="3411360"/>
            <a:ext cx="17640" cy="18208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924280" y="4108320"/>
            <a:ext cx="7920" cy="11509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-1605960" y="-480240"/>
            <a:ext cx="7050960" cy="467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89120" y="2709720"/>
            <a:ext cx="353376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690560" y="2235240"/>
            <a:ext cx="3714840" cy="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7080" y="2482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297080" y="20970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261040" y="179856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210280" y="2706840"/>
            <a:ext cx="17280" cy="25146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402160" y="2239920"/>
            <a:ext cx="33480" cy="302112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70520" y="5365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210280" y="536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676520" y="5257800"/>
            <a:ext cx="451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128600" y="176688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457960" y="528336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2458800" y="2189160"/>
            <a:ext cx="2400120" cy="24224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759200" y="200484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677960" y="3262320"/>
            <a:ext cx="2970360" cy="93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295280" y="31384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5020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66688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400640" y="52768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772080" y="3273480"/>
            <a:ext cx="7920" cy="1976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662360" y="3279600"/>
            <a:ext cx="0" cy="195264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932200" y="3251160"/>
            <a:ext cx="0" cy="20080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3146400" y="2336760"/>
            <a:ext cx="2457360" cy="2470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514840" y="213372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1932120" y="2130480"/>
            <a:ext cx="2163600" cy="21765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976560" y="1920960"/>
            <a:ext cx="4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540400" y="226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crea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631960" y="2241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crease in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686480" y="2457360"/>
            <a:ext cx="67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836520" y="245736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ift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257800"/>
            <a:ext cx="50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55520" y="1785960"/>
            <a:ext cx="61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7320" y="5291280"/>
            <a:ext cx="130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4480" y="198288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800600"/>
            <a:ext cx="5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3429000"/>
            <a:ext cx="338904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4680" y="3459240"/>
            <a:ext cx="0" cy="179856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429000"/>
            <a:ext cx="0" cy="18288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86440" y="3433680"/>
            <a:ext cx="14040" cy="181764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0600" y="3363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44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884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292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24120" y="1963800"/>
            <a:ext cx="2816280" cy="281628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05680" y="4795920"/>
            <a:ext cx="5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9960" y="2021040"/>
            <a:ext cx="2815920" cy="28159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76760" y="4795920"/>
            <a:ext cx="5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y of the Firm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7960" y="3544920"/>
            <a:ext cx="413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784840" y="32734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Total Fixed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2123640" y="-735120"/>
            <a:ext cx="6479280" cy="57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59320" y="48369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verage Fixed Co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535120" y="3541680"/>
            <a:ext cx="0" cy="17208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397240" y="5303880"/>
            <a:ext cx="28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152360" y="34178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£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46240" y="43005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£1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663560" y="4413240"/>
            <a:ext cx="174168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384720" y="4413240"/>
            <a:ext cx="0" cy="8492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263760" y="5305320"/>
            <a:ext cx="2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Run Cos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flipV="1">
            <a:off x="2123640" y="-664200"/>
            <a:ext cx="6479280" cy="574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359320" y="49086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Fixed Cost (AF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1550160" y="2526480"/>
            <a:ext cx="4348800" cy="175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927760" y="3057480"/>
            <a:ext cx="1014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2943360" y="1622520"/>
            <a:ext cx="3098160" cy="18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929200" y="21463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-777240" y="-95760"/>
            <a:ext cx="5832000" cy="46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4927680" y="18604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Run Cos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2123640" y="-735120"/>
            <a:ext cx="6479280" cy="57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1550160" y="2454480"/>
            <a:ext cx="434880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943360" y="1550520"/>
            <a:ext cx="30981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-777240" y="-167760"/>
            <a:ext cx="5832000" cy="466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765760" y="30942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676520" y="5256360"/>
            <a:ext cx="513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11080" y="1828800"/>
            <a:ext cx="7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3388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in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1621800" y="2868840"/>
            <a:ext cx="434844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999040" y="3400560"/>
            <a:ext cx="1014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014640" y="1964880"/>
            <a:ext cx="309852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000840" y="24890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-705960" y="246240"/>
            <a:ext cx="5832000" cy="466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998960" y="22035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528200" y="2576880"/>
            <a:ext cx="4348440" cy="175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59" y="4190"/>
                </a:moveTo>
                <a:arcTo wR="10800" hR="10800" stAng="-8535694" swAng="8535694"/>
                <a:lnTo>
                  <a:pt x="10800" y="10800"/>
                </a:lnTo>
                <a:close/>
              </a:path>
              <a:path fill="none" w="21600" h="21600">
                <a:moveTo>
                  <a:pt x="2259" y="4190"/>
                </a:moveTo>
                <a:arcTo wR="10800" hR="10800" stAng="-8535694" swAng="85356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-982080" y="-5400"/>
            <a:ext cx="5832000" cy="46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2960640" y="1458360"/>
            <a:ext cx="309852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41"/>
                </a:moveTo>
                <a:arcTo wR="10800" hR="10800" stAng="10786867" swAng="10813133"/>
                <a:lnTo>
                  <a:pt x="10800" y="10800"/>
                </a:lnTo>
                <a:close/>
              </a:path>
              <a:path fill="none" w="21600" h="21600">
                <a:moveTo>
                  <a:pt x="0" y="10841"/>
                </a:moveTo>
                <a:arcTo wR="10800" hR="10800" stAng="10786867" swAng="1081313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627440" y="208584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59360" y="2093760"/>
            <a:ext cx="4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882800" y="377820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2403360" y="466236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5003640" y="4208400"/>
            <a:ext cx="6480" cy="23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3348000" y="2991960"/>
            <a:ext cx="0" cy="38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ng Run Average Cost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440160" y="21542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500800" y="27464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576520" y="3006720"/>
            <a:ext cx="9360" cy="22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086360" y="3902040"/>
            <a:ext cx="9360" cy="13543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2430360" y="5302080"/>
            <a:ext cx="3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91644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22612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>
            <a:off x="1677960" y="3009960"/>
            <a:ext cx="892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 flipV="1">
            <a:off x="1663200" y="3909960"/>
            <a:ext cx="2419560" cy="64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1677600" y="4262400"/>
            <a:ext cx="36925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311120" y="2905200"/>
            <a:ext cx="4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312920" y="379584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314360" y="413856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ng Run Average Cost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40160" y="21542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5500800" y="274644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R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576520" y="3006720"/>
            <a:ext cx="9360" cy="22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086360" y="3902040"/>
            <a:ext cx="9360" cy="13543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430360" y="5302080"/>
            <a:ext cx="3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91644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26120" y="5311800"/>
            <a:ext cx="35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677960" y="3009960"/>
            <a:ext cx="892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1663200" y="3909960"/>
            <a:ext cx="2419560" cy="64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1677600" y="4262400"/>
            <a:ext cx="36925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311120" y="2905200"/>
            <a:ext cx="4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312920" y="379584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314360" y="4138560"/>
            <a:ext cx="43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210680" y="-2575440"/>
            <a:ext cx="803016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689519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689519"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639200" y="356868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1670040" y="2138400"/>
            <a:ext cx="6480" cy="311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181160" y="20588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inimum Efficient Scale (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156960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240640" y="973800"/>
            <a:ext cx="3717720" cy="29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" y="9219"/>
                </a:moveTo>
                <a:arcTo wR="10800" hR="10800" stAng="-10294804" swAng="8973098"/>
                <a:lnTo>
                  <a:pt x="10800" y="10800"/>
                </a:lnTo>
                <a:close/>
              </a:path>
              <a:path fill="none" w="21600" h="21600">
                <a:moveTo>
                  <a:pt x="116" y="9219"/>
                </a:moveTo>
                <a:arcTo wR="10800" hR="10800" stAng="-10294804" swAng="8973098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40160" y="215424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500800" y="274644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423200" y="262260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365800" y="4255920"/>
            <a:ext cx="9360" cy="99396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986360" y="52801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inimum Efficient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1210680" y="-2575440"/>
            <a:ext cx="8030160" cy="68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1" y="4509"/>
                </a:moveTo>
                <a:arcTo wR="10800" hR="10800" stAng="-8662495" swAng="5689519"/>
                <a:lnTo>
                  <a:pt x="10800" y="10800"/>
                </a:lnTo>
                <a:close/>
              </a:path>
              <a:path fill="none" w="21600" h="21600">
                <a:moveTo>
                  <a:pt x="2021" y="4509"/>
                </a:moveTo>
                <a:arcTo wR="10800" hR="10800" stAng="-8662495" swAng="5689519"/>
              </a:path>
            </a:pathLst>
          </a:cu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639200" y="356868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L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160720" y="4449600"/>
            <a:ext cx="3008160" cy="6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166840" y="4497480"/>
            <a:ext cx="29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Economies of scale (falling LRAC) due to increasing retu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452920" y="4467240"/>
            <a:ext cx="22370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38880" y="4498920"/>
            <a:ext cx="29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Diseconomies of scale (rising LRAC) due to decreasing returns to 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700280" y="3112920"/>
            <a:ext cx="2238480" cy="8845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06400" y="2340000"/>
            <a:ext cx="1144800" cy="6620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nomies of Scale and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1720440" y="1194120"/>
            <a:ext cx="2044440" cy="18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7" y="5147"/>
                </a:moveTo>
                <a:arcTo wR="10800" hR="10800" stAng="-8906342" swAng="7706122"/>
                <a:lnTo>
                  <a:pt x="10800" y="10800"/>
                </a:lnTo>
                <a:close/>
              </a:path>
              <a:path fill="none" w="21600" h="21600">
                <a:moveTo>
                  <a:pt x="1597" y="5147"/>
                </a:moveTo>
                <a:arcTo wR="10800" hR="10800" stAng="-8906342" swAng="770612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40160" y="220176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423200" y="262260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27480" y="495288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279800" y="335160"/>
            <a:ext cx="1735920" cy="312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838600" y="16714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210360" y="298116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851200" y="2305080"/>
            <a:ext cx="14400" cy="2943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1671120" y="2311560"/>
            <a:ext cx="1179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681200" y="3011400"/>
            <a:ext cx="1179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387440" y="2209680"/>
            <a:ext cx="3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373040" y="2981160"/>
            <a:ext cx="3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633760" y="529596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790800" y="5305320"/>
            <a:ext cx="4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278240" y="1793880"/>
            <a:ext cx="495360" cy="17136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780080" y="1752480"/>
            <a:ext cx="12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ofit at Price 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781520" y="20239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Profit at Price 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utput level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164200" y="23734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395440" y="2114640"/>
            <a:ext cx="2062440" cy="313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465800" y="496260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586400" y="1924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51200" y="2305080"/>
            <a:ext cx="14400" cy="2943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20880" y="5286240"/>
            <a:ext cx="2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39732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65436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3527280" y="2762280"/>
            <a:ext cx="5040" cy="2495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-542160" y="141840"/>
            <a:ext cx="523800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10040" y="1476720"/>
            <a:ext cx="3085560" cy="22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" y="7591"/>
                </a:moveTo>
                <a:arcTo wR="10800" hR="10800" stAng="-9762967" swAng="9762967"/>
                <a:lnTo>
                  <a:pt x="10800" y="10800"/>
                </a:lnTo>
                <a:close/>
              </a:path>
              <a:path fill="none" w="21600" h="21600">
                <a:moveTo>
                  <a:pt x="488" y="7591"/>
                </a:moveTo>
                <a:arcTo wR="10800" hR="10800" stAng="-9762967" swAng="976296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784320" y="2924280"/>
            <a:ext cx="4680" cy="2314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446720" y="3390840"/>
            <a:ext cx="4680" cy="1857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30200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85880" y="2009880"/>
            <a:ext cx="924120" cy="1838160"/>
          </a:xfrm>
          <a:prstGeom prst="rtTriangle">
            <a:avLst/>
          </a:prstGeom>
          <a:solidFill>
            <a:srgbClr val="99c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0" y="1968480"/>
            <a:ext cx="1363680" cy="2706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11520" y="47052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552840"/>
            <a:ext cx="2808360" cy="54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61160" y="412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 Surplus and Price Elasticity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2640" y="3855960"/>
            <a:ext cx="44960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2400" y="3733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30520" y="3873600"/>
            <a:ext cx="0" cy="13856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6320" y="52642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02360" y="3852720"/>
            <a:ext cx="0" cy="1386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6360" y="526572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19520" y="16034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Relative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1360" y="3571920"/>
            <a:ext cx="1533600" cy="276120"/>
          </a:xfrm>
          <a:prstGeom prst="rtTriangle">
            <a:avLst/>
          </a:prstGeom>
          <a:solidFill>
            <a:srgbClr val="99c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181160" y="1765440"/>
            <a:ext cx="5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997600" y="5283360"/>
            <a:ext cx="16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utput level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78520" y="23446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149880" y="4554360"/>
            <a:ext cx="78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395440" y="2114640"/>
            <a:ext cx="2062440" cy="3135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255920" y="4857840"/>
            <a:ext cx="4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514760" y="19098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387600" y="5286240"/>
            <a:ext cx="2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65436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32108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3527280" y="2762280"/>
            <a:ext cx="5040" cy="2495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-542160" y="141840"/>
            <a:ext cx="523800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210040" y="1476720"/>
            <a:ext cx="3085560" cy="22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" y="7591"/>
                </a:moveTo>
                <a:arcTo wR="10800" hR="10800" stAng="-9762967" swAng="9762967"/>
                <a:lnTo>
                  <a:pt x="10800" y="10800"/>
                </a:lnTo>
                <a:close/>
              </a:path>
              <a:path fill="none" w="21600" h="21600">
                <a:moveTo>
                  <a:pt x="488" y="7591"/>
                </a:moveTo>
                <a:arcTo wR="10800" hR="10800" stAng="-9762967" swAng="9762967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3784320" y="2924280"/>
            <a:ext cx="4680" cy="2314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627440" y="3524400"/>
            <a:ext cx="14400" cy="1724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530600" y="5286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437000" y="3371760"/>
            <a:ext cx="14400" cy="1876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1692360" y="2824200"/>
            <a:ext cx="1886040" cy="7826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Price and Output in the 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1982880" y="92592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465960" y="211608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149880" y="4554360"/>
            <a:ext cx="93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395440" y="2114640"/>
            <a:ext cx="2158920" cy="3279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505400" y="52624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288040" y="24987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-1526040" y="1395720"/>
            <a:ext cx="704088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580920" y="2797200"/>
            <a:ext cx="1800" cy="2451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1687320" y="2803680"/>
            <a:ext cx="1871640" cy="14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432240" y="5295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668600" y="3622680"/>
            <a:ext cx="190008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397160" y="2711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276200" y="3498840"/>
            <a:ext cx="4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/>
          <p:nvPr/>
        </p:nvSpPr>
        <p:spPr>
          <a:xfrm>
            <a:off x="1692360" y="2752560"/>
            <a:ext cx="1741320" cy="962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versus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3632040"/>
            <a:ext cx="13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 = 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3454560" y="2717640"/>
            <a:ext cx="1440" cy="2530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>
            <a:off x="1687680" y="2724120"/>
            <a:ext cx="17697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2814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397160" y="2631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677960" y="373680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398600" y="36100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4979520" y="3726000"/>
            <a:ext cx="1800" cy="1515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2292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821120" y="34909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332160" y="2532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206880" y="3708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3463920" y="2751120"/>
            <a:ext cx="1454040" cy="971640"/>
          </a:xfrm>
          <a:prstGeom prst="rtTriangle">
            <a:avLst/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706400" y="2752560"/>
            <a:ext cx="1741680" cy="9622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poly versus Competition (Welfare Lo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172200" y="3632040"/>
            <a:ext cx="133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RAC = 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454560" y="2717640"/>
            <a:ext cx="1440" cy="2530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87680" y="2724120"/>
            <a:ext cx="17697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2814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968480" y="304488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onopoly 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397160" y="2631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677960" y="373680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398600" y="36100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4979520" y="3726000"/>
            <a:ext cx="1800" cy="1515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82292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821120" y="34909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332160" y="2532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206880" y="3708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525840" y="3371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adweight Welfare Lo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149880" y="4554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emand (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816120" y="1762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822720" y="52974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681200" y="4284720"/>
            <a:ext cx="4940280" cy="6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302520" y="4032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RM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 flipV="1">
            <a:off x="2241360" y="1010520"/>
            <a:ext cx="852408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303960" y="3645000"/>
            <a:ext cx="6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1689120" y="3886200"/>
            <a:ext cx="4089240" cy="368280"/>
          </a:xfrm>
          <a:prstGeom prst="rect">
            <a:avLst/>
          </a:prstGeom>
          <a:solidFill>
            <a:srgbClr val="009999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689120" y="2946240"/>
            <a:ext cx="2095560" cy="59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Monopoly – losses an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149880" y="4554360"/>
            <a:ext cx="93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395440" y="2114640"/>
            <a:ext cx="1871640" cy="2906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870240" y="53103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681200" y="4284720"/>
            <a:ext cx="4940280" cy="612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302520" y="403236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2241360" y="1010520"/>
            <a:ext cx="852408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303960" y="3645000"/>
            <a:ext cx="6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803760" y="2946240"/>
            <a:ext cx="1440" cy="2302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 flipV="1">
            <a:off x="1687680" y="293688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359000" y="2835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1674720" y="355932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270080" y="344484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619440" y="53118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5784840" y="3860640"/>
            <a:ext cx="1440" cy="1387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687680" y="3878280"/>
            <a:ext cx="4071600" cy="11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613480" y="53244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359000" y="41814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270080" y="376236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530520" y="1778040"/>
            <a:ext cx="635040" cy="266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141800" y="17114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915080" y="1765440"/>
            <a:ext cx="660240" cy="279360"/>
          </a:xfrm>
          <a:prstGeom prst="rect">
            <a:avLst/>
          </a:prstGeom>
          <a:solidFill>
            <a:srgbClr val="009999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40480" y="1724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ss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1541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541520" y="5257800"/>
            <a:ext cx="308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efits from Cross Subsid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301840" y="2025720"/>
            <a:ext cx="1911240" cy="1290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792600" y="2749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22876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8120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97080" y="5334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81600" y="497664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546200" y="4284720"/>
            <a:ext cx="2639880" cy="61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84480" y="408780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H="1" flipV="1">
            <a:off x="2089800" y="1250640"/>
            <a:ext cx="8524440" cy="289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32" y="1524"/>
                </a:moveTo>
                <a:arcTo wR="10800" hR="10800" stAng="-3551466" swAng="3551466"/>
                <a:lnTo>
                  <a:pt x="10800" y="10800"/>
                </a:lnTo>
                <a:close/>
              </a:path>
              <a:path fill="none" w="21600" h="21600">
                <a:moveTo>
                  <a:pt x="16332" y="1524"/>
                </a:moveTo>
                <a:arcTo wR="10800" hR="10800" stAng="-3551466" swAng="3551466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986280" y="370044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3660840" y="2946240"/>
            <a:ext cx="1440" cy="2302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 flipV="1">
            <a:off x="1552680" y="2936880"/>
            <a:ext cx="211608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85316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844880" y="5259240"/>
            <a:ext cx="308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076640" y="17636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7173720" y="53355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7775640" y="384192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903920" y="3144960"/>
            <a:ext cx="3046320" cy="1260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7775640" y="4449600"/>
            <a:ext cx="3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859280" y="4287960"/>
            <a:ext cx="3164040" cy="12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7777080" y="408924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903920" y="3259080"/>
            <a:ext cx="2581200" cy="1505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404120" y="46972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 flipV="1">
            <a:off x="5051520" y="1955160"/>
            <a:ext cx="550152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riers to Entry – Blockaded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172200" y="409248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LRAC = LRMC (Existing Monopolis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149880" y="455436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onopoly Demand (A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3780000" y="2925720"/>
            <a:ext cx="9360" cy="2322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1690560" y="2946240"/>
            <a:ext cx="210024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630600" y="52880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915840" y="1762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8547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397160" y="2846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77960" y="421308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398600" y="40784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5670720" y="4216320"/>
            <a:ext cx="1440" cy="1033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497560" y="52894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Q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04040" y="3990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618000" y="27385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683160" y="40258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687680" y="3381480"/>
            <a:ext cx="45496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173640" y="3244680"/>
            <a:ext cx="16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AC = MC (Potential Entrant into the mark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99120" y="31748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1411200" y="32702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1700280" y="2925720"/>
            <a:ext cx="2149560" cy="108576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700280" y="2684520"/>
            <a:ext cx="2714400" cy="396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2789280" y="1909800"/>
            <a:ext cx="4295880" cy="19764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789600" y="388620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690640" y="2106720"/>
            <a:ext cx="2980080" cy="2571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573880" y="466092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421160" y="2643120"/>
            <a:ext cx="0" cy="260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1670040" y="2658960"/>
            <a:ext cx="2741760" cy="7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74720" y="3084480"/>
            <a:ext cx="274968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1380960" y="25369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264200" y="53006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719520" y="53053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843520" y="168120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V="1">
            <a:off x="151200" y="-607320"/>
            <a:ext cx="5888880" cy="50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146320" y="3622680"/>
            <a:ext cx="4851360" cy="1166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767640" y="47847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130480" y="3765600"/>
            <a:ext cx="4075200" cy="1339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170760" y="504360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3867120" y="2894040"/>
            <a:ext cx="7920" cy="234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1676160" y="403704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382760" y="39196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1695240" y="289872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1700280" y="2925720"/>
            <a:ext cx="2157480" cy="1085760"/>
          </a:xfrm>
          <a:prstGeom prst="rect">
            <a:avLst/>
          </a:prstGeom>
          <a:solidFill>
            <a:srgbClr val="99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719520" y="53053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843520" y="168120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151200" y="-607320"/>
            <a:ext cx="5888880" cy="50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146320" y="3622680"/>
            <a:ext cx="4851360" cy="116676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767640" y="47847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130480" y="3765600"/>
            <a:ext cx="4075200" cy="1339920"/>
          </a:xfrm>
          <a:prstGeom prst="line">
            <a:avLst/>
          </a:prstGeom>
          <a:ln w="255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170760" y="504360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3867120" y="2894040"/>
            <a:ext cx="7920" cy="234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676160" y="403704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382760" y="39196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1685520" y="2911320"/>
            <a:ext cx="2181240" cy="64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311120" y="280980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743280" y="27018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824280" y="36720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824280" y="38703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25780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8288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1200" y="1968480"/>
            <a:ext cx="1363680" cy="270684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1520" y="47052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5240" y="183024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5240" y="5259240"/>
            <a:ext cx="31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3120" y="18302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552840"/>
            <a:ext cx="2808360" cy="54432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1160" y="412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1600" y="1601640"/>
            <a:ext cx="21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latively In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 Surplus and Price Elasticity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2640" y="3855960"/>
            <a:ext cx="4496040" cy="792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2400" y="3733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30520" y="3873600"/>
            <a:ext cx="0" cy="138564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6320" y="52642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2360" y="3852720"/>
            <a:ext cx="0" cy="1386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6360" y="5265720"/>
            <a:ext cx="4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9520" y="1603440"/>
            <a:ext cx="219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latively Elastic Dem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8480" y="2031840"/>
            <a:ext cx="898560" cy="1805040"/>
          </a:xfrm>
          <a:prstGeom prst="rtTriangle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95760" y="3573360"/>
            <a:ext cx="1379520" cy="277920"/>
          </a:xfrm>
          <a:prstGeom prst="rtTriangle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61120" y="5300640"/>
            <a:ext cx="15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3680" y="5283360"/>
            <a:ext cx="15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uantity Deman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98400" y="1844640"/>
            <a:ext cx="941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ort Run Supply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940120" y="42120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7488360" y="15922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676840" y="1657440"/>
            <a:ext cx="9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C = supp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1814400" y="1589760"/>
            <a:ext cx="577188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18" y="2824"/>
                </a:moveTo>
                <a:arcTo wR="10800" hR="10800" stAng="-7943791" swAng="7943791"/>
                <a:lnTo>
                  <a:pt x="10800" y="10800"/>
                </a:lnTo>
                <a:close/>
              </a:path>
              <a:path fill="none" w="21600" h="21600">
                <a:moveTo>
                  <a:pt x="3518" y="2824"/>
                </a:moveTo>
                <a:arcTo wR="10800" hR="10800" stAng="-7943791" swAng="79437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7361280" y="256212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150840" y="-604800"/>
            <a:ext cx="5889240" cy="504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62" y="2379"/>
                </a:moveTo>
                <a:arcTo wR="10800" hR="10800" stAng="-3074148" swAng="3074148"/>
                <a:lnTo>
                  <a:pt x="10800" y="10800"/>
                </a:lnTo>
                <a:close/>
              </a:path>
              <a:path fill="none" w="21600" h="21600">
                <a:moveTo>
                  <a:pt x="17562" y="2379"/>
                </a:moveTo>
                <a:arcTo wR="10800" hR="10800" stAng="-3074148" swAng="3074148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930920" y="3887640"/>
            <a:ext cx="1440" cy="13543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H="1" flipV="1">
            <a:off x="1681200" y="3908520"/>
            <a:ext cx="5775120" cy="144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382760" y="37926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689120" y="3179880"/>
            <a:ext cx="5772240" cy="1260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027840" y="3944880"/>
            <a:ext cx="14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he Shut Dow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384200" y="307980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807160" y="3184560"/>
            <a:ext cx="14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reak-Even 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776840" y="527688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1704960" y="2762280"/>
            <a:ext cx="1738440" cy="16344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700280" y="3112920"/>
            <a:ext cx="2238480" cy="8845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s and an Increase in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395440" y="2114640"/>
            <a:ext cx="1900440" cy="28875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227480" y="495288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273720" y="300528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-594720" y="19386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3436920" y="2709720"/>
            <a:ext cx="22320" cy="254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265560" y="52959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278240" y="1793880"/>
            <a:ext cx="495360" cy="17136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780080" y="1752480"/>
            <a:ext cx="113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ofit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781520" y="2023920"/>
            <a:ext cx="113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rofit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36560" y="1828800"/>
            <a:ext cx="895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Reven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373040" y="298116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2917800" y="670320"/>
            <a:ext cx="474012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416720" y="1782720"/>
            <a:ext cx="61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SR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-648720" y="1067760"/>
            <a:ext cx="7041600" cy="26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251400" y="2157480"/>
            <a:ext cx="46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M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1671120" y="2728800"/>
            <a:ext cx="17845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374840" y="262584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>
            <a:off x="1681200" y="2938320"/>
            <a:ext cx="1784160" cy="5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1324080" y="282420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3443400" y="5527800"/>
            <a:ext cx="544320" cy="7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1317600" y="2742840"/>
            <a:ext cx="0" cy="3380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 flipH="1">
            <a:off x="1733400" y="4049640"/>
            <a:ext cx="4572000" cy="378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0371"/>
                </a:moveTo>
                <a:arcTo wR="10800" hR="10800" stAng="-10663393" swAng="10663393"/>
                <a:lnTo>
                  <a:pt x="10800" y="10800"/>
                </a:lnTo>
                <a:close/>
              </a:path>
              <a:path fill="none" w="21600" h="21600">
                <a:moveTo>
                  <a:pt x="9" y="10371"/>
                </a:moveTo>
                <a:arcTo wR="10800" hR="10800" stAng="-10663393" swAng="10663393"/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676520" y="1143000"/>
            <a:ext cx="0" cy="480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992920" y="1123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1676520" y="1981080"/>
            <a:ext cx="5942160" cy="624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800600" y="205740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61520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78000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96252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962520" y="2133720"/>
            <a:ext cx="0" cy="14475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12288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95188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755000" y="575640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6600"/>
                </a:solidFill>
                <a:latin typeface="Arial"/>
              </a:rPr>
              <a:t>Total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71480" y="4027320"/>
            <a:ext cx="47037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6347880" y="391644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x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684440" y="4662360"/>
            <a:ext cx="4668840" cy="14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6360840" y="45514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in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695920" y="4702320"/>
            <a:ext cx="0" cy="471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494680" y="5303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256440" y="28875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379680" y="1593720"/>
            <a:ext cx="117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ofit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4199040" y="1595520"/>
            <a:ext cx="117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962520" y="1798560"/>
            <a:ext cx="0" cy="206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4794120" y="1782720"/>
            <a:ext cx="0" cy="155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Revenue and Cost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 flipH="1">
            <a:off x="1666440" y="1143000"/>
            <a:ext cx="9720" cy="404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992920" y="1123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708720" y="51926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85920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45616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295960" y="51926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6629400" y="1355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279600" y="2755800"/>
            <a:ext cx="11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Break Even TR=T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848040" y="3084480"/>
            <a:ext cx="7920" cy="452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Revenue and Cost under Perf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1689120" y="1482840"/>
            <a:ext cx="5049720" cy="3690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 flipH="1">
            <a:off x="1666440" y="1143000"/>
            <a:ext cx="9720" cy="404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815160" y="531036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992920" y="116208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 Cost (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676520" y="373068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-1599840" y="-686880"/>
            <a:ext cx="807732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60400" y="1047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859200" y="3581280"/>
            <a:ext cx="0" cy="1600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126036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456160" y="2425680"/>
            <a:ext cx="0" cy="27432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629400" y="135576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 Choice Questions o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1689120" y="1482840"/>
            <a:ext cx="5049720" cy="3690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406520" y="3878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428120" y="499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701880" y="3287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292720" y="2116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720960" y="5164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333760" y="51642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5396400" y="295416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465960" y="1673280"/>
            <a:ext cx="9360" cy="3486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221520" y="1459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321240" y="5164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907240" y="18478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Perfectly Elastic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1689120" y="2006280"/>
            <a:ext cx="4341960" cy="3166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689120" y="4527720"/>
            <a:ext cx="4622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377040" y="4294080"/>
            <a:ext cx="117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AR) = 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322280" y="440208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£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581200" y="4527720"/>
            <a:ext cx="0" cy="649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448000" y="5203800"/>
            <a:ext cx="2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139920" y="519732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3265200" y="4005360"/>
            <a:ext cx="14040" cy="1173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1688760" y="401940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324080" y="3895560"/>
            <a:ext cx="3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99"/>
                </a:solidFill>
                <a:latin typeface="Arial"/>
              </a:rPr>
              <a:t>£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248520" y="295920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downward sloping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700280" y="2028960"/>
            <a:ext cx="5942160" cy="62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4572000" y="2035080"/>
            <a:ext cx="7920" cy="3141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1938240" y="4653000"/>
            <a:ext cx="3843360" cy="774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824120" y="48070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962000" y="4505400"/>
            <a:ext cx="3826080" cy="36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832360" y="4738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Demand) 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/>
          <p:nvPr/>
        </p:nvSpPr>
        <p:spPr>
          <a:xfrm>
            <a:off x="1684440" y="1549440"/>
            <a:ext cx="792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676520" y="5181480"/>
            <a:ext cx="5790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815160" y="519912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860400" y="146844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st and Prof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981080" y="1681200"/>
            <a:ext cx="0" cy="533520"/>
          </a:xfrm>
          <a:prstGeom prst="line">
            <a:avLst/>
          </a:prstGeom>
          <a:ln w="93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248520" y="295920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Total Revenue (T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341280" y="274680"/>
            <a:ext cx="8345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Revenue with a downward sloping dema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1700280" y="2028960"/>
            <a:ext cx="5942160" cy="62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95" y="3232"/>
                </a:moveTo>
                <a:arcTo wR="10800" hR="10800" stAng="-8130667" swAng="8130667"/>
                <a:lnTo>
                  <a:pt x="10800" y="10800"/>
                </a:lnTo>
                <a:close/>
              </a:path>
              <a:path fill="none" w="21600" h="21600">
                <a:moveTo>
                  <a:pt x="3095" y="3232"/>
                </a:moveTo>
                <a:arcTo wR="10800" hR="10800" stAng="-8130667" swAng="8130667"/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572000" y="2035080"/>
            <a:ext cx="7920" cy="3141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938240" y="4653000"/>
            <a:ext cx="3843360" cy="774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1824120" y="48070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ginal Revenue (M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962000" y="4505400"/>
            <a:ext cx="3826080" cy="36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832360" y="4738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verage Revenue (Demand) 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4078440" y="1498680"/>
            <a:ext cx="117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80"/>
                </a:solidFill>
                <a:latin typeface="Arial"/>
              </a:rPr>
              <a:t>Total Revenue  is maximised when MR =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32360" y="4089240"/>
            <a:ext cx="11779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80"/>
                </a:solidFill>
                <a:latin typeface="Arial"/>
              </a:rPr>
              <a:t>Price elasticity of demand = 1 at this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2179800" y="3822840"/>
            <a:ext cx="1118880" cy="151596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Curves with Different Elasticity and Total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262160" y="3513240"/>
            <a:ext cx="888840" cy="27144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921040" y="549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1856520" y="1457280"/>
            <a:ext cx="668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ke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895360" y="1457280"/>
            <a:ext cx="668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arket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247760" y="3498840"/>
            <a:ext cx="64771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612560" y="538488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485240" y="541008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uant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07120" y="178920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599720" y="190008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950400" y="33782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071680" y="23353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5710320" y="2473200"/>
            <a:ext cx="9360" cy="28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2162160" y="3476520"/>
            <a:ext cx="792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247760" y="186372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1247760" y="536724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362560" y="536724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362560" y="186228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430280" y="3298680"/>
            <a:ext cx="3171960" cy="849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638680" y="1870200"/>
            <a:ext cx="503280" cy="3341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068880" y="510372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466880" y="4148280"/>
            <a:ext cx="41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5362560" y="2471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324160" y="1919160"/>
            <a:ext cx="20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Higher revenue from reducing the price from Pa to Pb (the gain in quantity sold more than offsets the lower price per uni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016680" y="1920960"/>
            <a:ext cx="20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Demand in segment B of the market is relatively inelastic. A higher unit price is charged and total revenue also incr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86400" y="2039760"/>
            <a:ext cx="542880" cy="2638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2610000" y="2421000"/>
            <a:ext cx="387360" cy="1012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586120" y="5394240"/>
            <a:ext cx="34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980720" y="540720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257480" y="3801960"/>
            <a:ext cx="205236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3298680" y="3790440"/>
            <a:ext cx="7920" cy="15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25520" y="5408640"/>
            <a:ext cx="343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952200" y="3665520"/>
            <a:ext cx="331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5877000" y="3497040"/>
            <a:ext cx="7920" cy="18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779800" y="5396040"/>
            <a:ext cx="33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Q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90760" y="329076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726160" y="3505320"/>
            <a:ext cx="147600" cy="184464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376960" y="2487600"/>
            <a:ext cx="328680" cy="98748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>
            <a:off x="1701720" y="3424320"/>
            <a:ext cx="2741760" cy="741240"/>
          </a:xfrm>
          <a:prstGeom prst="rect">
            <a:avLst/>
          </a:prstGeom>
          <a:solidFill>
            <a:srgbClr val="c0c0c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700280" y="3105000"/>
            <a:ext cx="2238480" cy="89244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676520" y="182880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1676520" y="5249880"/>
            <a:ext cx="58244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181160" y="1765440"/>
            <a:ext cx="53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997600" y="5283360"/>
            <a:ext cx="16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put (Q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t Maximisation and Sales Revenue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2940120" y="1494360"/>
            <a:ext cx="4739760" cy="276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86" swAng="10763386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86" swAng="10763386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7423200" y="2622600"/>
            <a:ext cx="61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R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436840" y="2025720"/>
            <a:ext cx="3784680" cy="255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149880" y="455436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R (Dema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95440" y="2114640"/>
            <a:ext cx="2183040" cy="3298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497480" y="5413320"/>
            <a:ext cx="4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210360" y="2981160"/>
            <a:ext cx="4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-618480" y="1899000"/>
            <a:ext cx="7041600" cy="2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967200" y="3059280"/>
            <a:ext cx="0" cy="21891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670040" y="3076560"/>
            <a:ext cx="229536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1679040" y="4006800"/>
            <a:ext cx="2295720" cy="144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790800" y="530532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387440" y="29973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322280" y="389412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280040" y="2065320"/>
            <a:ext cx="495000" cy="171360"/>
          </a:xfrm>
          <a:prstGeom prst="rect">
            <a:avLst/>
          </a:prstGeom>
          <a:solidFill>
            <a:srgbClr val="99cc00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781520" y="202392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fit Max at Price 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468680" y="3390840"/>
            <a:ext cx="0" cy="18590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1674360" y="3395520"/>
            <a:ext cx="2792520" cy="22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380960" y="3300480"/>
            <a:ext cx="34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8600" y="4175280"/>
            <a:ext cx="2792160" cy="21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316160" y="4078440"/>
            <a:ext cx="4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268880" y="530712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281480" y="2328840"/>
            <a:ext cx="495360" cy="17136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782960" y="2287440"/>
            <a:ext cx="167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Revenue Max at Price 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21:02:36Z</dcterms:created>
  <dc:creator>Geoff Riley</dc:creator>
  <dc:description/>
  <dc:language>en-US</dc:language>
  <cp:lastModifiedBy>neil.elrick</cp:lastModifiedBy>
  <dcterms:modified xsi:type="dcterms:W3CDTF">2008-06-16T01:29:10Z</dcterms:modified>
  <cp:revision>215</cp:revision>
  <dc:subject/>
  <dc:title>Slide 1</dc:title>
</cp:coreProperties>
</file>